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B7C6-04F4-4DAF-BC45-0206AAD65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03D2-ACB1-4C1A-B35C-471EB6D77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317B-8309-463F-84AA-03FA6DF8B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43D9-8FB9-42B5-8B71-FF19B33F0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0F6FE-F15D-4226-A269-8071C6CEA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EAD50-A5D7-4669-95B2-D05BEF773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35623-AC8C-4DBD-9813-15CD6F6CC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7D0CB-6C52-44EF-B217-E9BB7FFCB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C3D15-6481-491D-A13C-87737B1C3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C5131-9A7C-4648-A005-97DE00832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5A710-AA34-43E9-8AA3-16638CC54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82A5-D04D-4195-BD23-5229C6747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8E2B7-81AE-48BE-B867-CE017FD37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B62FC-A079-449C-92D0-E410A341E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C44A4-41FB-4631-B9A2-7E5085625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1DBD6-866D-499F-B5A9-5F86AA39C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5E406-76C5-41A9-A5B1-9D3FBF572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AA04-FCD4-4076-B616-F74218678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5FB2-579A-4969-A6B0-C07E14EB6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5499-0047-45E0-ABF3-CDC3D2D03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2A42-440C-4ED5-A520-C0A0BD194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1AF1-CF9E-4027-B37A-3F6582EDD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CFE9-A798-443C-9862-520DA9398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71EE-17AA-4F0A-BD3D-9B54EF3A7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8BB41-0796-4392-943C-32146ABD5C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A35B4-DF51-4889-AF5B-03C88A7AC7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2133720" y="1447920"/>
            <a:ext cx="5943600" cy="14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新細明體"/>
              </a:rPr>
              <a:t>地圖閱讀技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新細明體"/>
              <a:ea typeface="新細明體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新界喇沙中學地理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6145200" y="2298600"/>
            <a:ext cx="270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如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276720" y="38088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3366"/>
                </a:solidFill>
                <a:latin typeface="Times New Roman"/>
              </a:rPr>
              <a:t>方向</a:t>
            </a:r>
            <a:r>
              <a:rPr b="1" lang="zh-TW" sz="3200" spc="-1" strike="noStrike">
                <a:solidFill>
                  <a:srgbClr val="003366"/>
                </a:solidFill>
                <a:latin typeface="Times New Roman"/>
              </a:rPr>
              <a:t>(2)-</a:t>
            </a:r>
            <a:r>
              <a:rPr b="1" lang="zh-TW" sz="3200" spc="-1" strike="noStrike">
                <a:solidFill>
                  <a:srgbClr val="003366"/>
                </a:solidFill>
                <a:latin typeface="Times New Roman"/>
              </a:rPr>
              <a:t>方位角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1108080" y="1200240"/>
            <a:ext cx="5189400" cy="5029200"/>
            <a:chOff x="1108080" y="1200240"/>
            <a:chExt cx="5189400" cy="5029200"/>
          </a:xfrm>
        </p:grpSpPr>
        <p:grpSp>
          <p:nvGrpSpPr>
            <p:cNvPr id="585" name=""/>
            <p:cNvGrpSpPr/>
            <p:nvPr/>
          </p:nvGrpSpPr>
          <p:grpSpPr>
            <a:xfrm>
              <a:off x="1198440" y="1200240"/>
              <a:ext cx="4911120" cy="4911120"/>
              <a:chOff x="1198440" y="1200240"/>
              <a:chExt cx="4911120" cy="4911120"/>
            </a:xfrm>
          </p:grpSpPr>
          <p:grpSp>
            <p:nvGrpSpPr>
              <p:cNvPr id="586" name=""/>
              <p:cNvGrpSpPr/>
              <p:nvPr/>
            </p:nvGrpSpPr>
            <p:grpSpPr>
              <a:xfrm>
                <a:off x="1198440" y="1200240"/>
                <a:ext cx="4911120" cy="4911120"/>
                <a:chOff x="1198440" y="1200240"/>
                <a:chExt cx="4911120" cy="4911120"/>
              </a:xfrm>
            </p:grpSpPr>
            <p:sp>
              <p:nvSpPr>
                <p:cNvPr id="587" name=""/>
                <p:cNvSpPr/>
                <p:nvPr/>
              </p:nvSpPr>
              <p:spPr>
                <a:xfrm>
                  <a:off x="1198440" y="3655800"/>
                  <a:ext cx="4911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 flipV="1">
                  <a:off x="3654000" y="1200240"/>
                  <a:ext cx="0" cy="4911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 flipV="1">
                  <a:off x="3227760" y="1237680"/>
                  <a:ext cx="852480" cy="4836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1198440" y="1200240"/>
                  <a:ext cx="4911120" cy="49111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 flipH="1" flipV="1">
                  <a:off x="3227760" y="1237680"/>
                  <a:ext cx="852480" cy="4836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 flipH="1">
                  <a:off x="1198440" y="3655800"/>
                  <a:ext cx="4911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 flipV="1">
                  <a:off x="2814120" y="1348200"/>
                  <a:ext cx="1679760" cy="4615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 flipV="1">
                  <a:off x="2426400" y="1529280"/>
                  <a:ext cx="2455560" cy="4253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 flipV="1">
                  <a:off x="2075760" y="1774800"/>
                  <a:ext cx="3156480" cy="3762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 flipV="1">
                  <a:off x="1773000" y="2077560"/>
                  <a:ext cx="3762000" cy="3156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 flipV="1">
                  <a:off x="1527480" y="2427840"/>
                  <a:ext cx="4253040" cy="2455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 flipV="1">
                  <a:off x="1346400" y="2815920"/>
                  <a:ext cx="4615200" cy="1679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 flipV="1">
                  <a:off x="1235880" y="3229560"/>
                  <a:ext cx="4836240" cy="852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0" name=""/>
              <p:cNvGrpSpPr/>
              <p:nvPr/>
            </p:nvGrpSpPr>
            <p:grpSpPr>
              <a:xfrm>
                <a:off x="1198440" y="1200240"/>
                <a:ext cx="4911120" cy="4911120"/>
                <a:chOff x="1198440" y="1200240"/>
                <a:chExt cx="4911120" cy="4911120"/>
              </a:xfrm>
            </p:grpSpPr>
            <p:sp>
              <p:nvSpPr>
                <p:cNvPr id="601" name=""/>
                <p:cNvSpPr/>
                <p:nvPr/>
              </p:nvSpPr>
              <p:spPr>
                <a:xfrm flipV="1">
                  <a:off x="3654000" y="1200240"/>
                  <a:ext cx="0" cy="4911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 flipH="1">
                  <a:off x="1198440" y="3655800"/>
                  <a:ext cx="4911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 flipH="1" flipV="1">
                  <a:off x="1235880" y="3229560"/>
                  <a:ext cx="4836240" cy="852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 rot="16200000">
                  <a:off x="1198440" y="1200240"/>
                  <a:ext cx="4911120" cy="49111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 flipH="1">
                  <a:off x="1235880" y="3229560"/>
                  <a:ext cx="4836240" cy="852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3654000" y="1200240"/>
                  <a:ext cx="0" cy="4911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 flipH="1" flipV="1">
                  <a:off x="1346400" y="2815920"/>
                  <a:ext cx="4615200" cy="1679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 flipH="1" flipV="1">
                  <a:off x="1527480" y="2428200"/>
                  <a:ext cx="4253040" cy="2455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 flipH="1" flipV="1">
                  <a:off x="1773000" y="2077560"/>
                  <a:ext cx="3762000" cy="3156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 flipH="1" flipV="1">
                  <a:off x="2075760" y="1774800"/>
                  <a:ext cx="3156480" cy="3762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 flipH="1" flipV="1">
                  <a:off x="2426040" y="1529280"/>
                  <a:ext cx="2455920" cy="4253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 flipH="1" flipV="1">
                  <a:off x="2814120" y="1348200"/>
                  <a:ext cx="1679760" cy="4615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 flipH="1" flipV="1">
                  <a:off x="3227760" y="1237680"/>
                  <a:ext cx="852480" cy="4836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14" name=""/>
            <p:cNvSpPr/>
            <p:nvPr/>
          </p:nvSpPr>
          <p:spPr>
            <a:xfrm>
              <a:off x="3689280" y="1200240"/>
              <a:ext cx="74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0" lang="zh-TW" sz="2000" spc="-1" strike="noStrike">
                  <a:solidFill>
                    <a:srgbClr val="000099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205160" y="135252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99"/>
                  </a:solidFill>
                  <a:latin typeface="Times New Roma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443040" y="120024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433760" y="150516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0" lang="zh-TW" sz="2000" spc="-1" strike="noStrike">
                  <a:solidFill>
                    <a:srgbClr val="000099"/>
                  </a:solidFill>
                  <a:latin typeface="Times New Roma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890960" y="174960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99"/>
                  </a:solidFill>
                  <a:latin typeface="Times New Roma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195880" y="199404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99"/>
                  </a:solidFill>
                  <a:latin typeface="Times New Roman"/>
                </a:rPr>
                <a:t>5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424480" y="225108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99"/>
                  </a:solidFill>
                  <a:latin typeface="Times New Roman"/>
                </a:rPr>
                <a:t>6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424480" y="264816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zh-TW" sz="2000" spc="-1" strike="noStrike">
                  <a:solidFill>
                    <a:srgbClr val="000099"/>
                  </a:solidFill>
                  <a:latin typeface="Times New Roma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729040" y="304488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99"/>
                  </a:solidFill>
                  <a:latin typeface="Times New Roman"/>
                </a:rPr>
                <a:t>8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63960" y="344196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99"/>
                  </a:solidFill>
                  <a:latin typeface="Times New Roman"/>
                </a:rPr>
                <a:t>9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424480" y="4632480"/>
              <a:ext cx="5824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99"/>
                  </a:solidFill>
                  <a:latin typeface="Times New Roman"/>
                </a:rPr>
                <a:t>1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680080" y="3838680"/>
              <a:ext cx="5824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99"/>
                  </a:solidFill>
                  <a:latin typeface="Times New Roman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562360" y="4235400"/>
              <a:ext cx="5828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99"/>
                  </a:solidFill>
                  <a:latin typeface="Times New Roman"/>
                </a:rPr>
                <a:t>1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146560" y="5029200"/>
              <a:ext cx="58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99"/>
                  </a:solidFill>
                  <a:latin typeface="Times New Roman"/>
                </a:rPr>
                <a:t>1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890960" y="5238720"/>
              <a:ext cx="58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99"/>
                  </a:solidFill>
                  <a:latin typeface="Times New Roman"/>
                </a:rPr>
                <a:t>1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564080" y="5527800"/>
              <a:ext cx="5824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99"/>
                  </a:solidFill>
                  <a:latin typeface="Times New Roman"/>
                </a:rPr>
                <a:t>15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205160" y="5680080"/>
              <a:ext cx="58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99"/>
                  </a:solidFill>
                  <a:latin typeface="Times New Roman"/>
                </a:rPr>
                <a:t>1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851280" y="5823000"/>
              <a:ext cx="58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99"/>
                  </a:solidFill>
                  <a:latin typeface="Times New Roman"/>
                </a:rPr>
                <a:t>17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394080" y="5823000"/>
              <a:ext cx="58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99"/>
                  </a:solidFill>
                  <a:latin typeface="Times New Roman"/>
                </a:rPr>
                <a:t>18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985840" y="5832720"/>
              <a:ext cx="582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99"/>
                  </a:solidFill>
                  <a:latin typeface="Times New Roman"/>
                </a:rPr>
                <a:t>19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452680" y="5715000"/>
              <a:ext cx="9414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99"/>
                  </a:solidFill>
                  <a:latin typeface="Times New Roman"/>
                </a:rPr>
                <a:t>2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224080" y="5543640"/>
              <a:ext cx="5824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99"/>
                  </a:solidFill>
                  <a:latin typeface="Times New Roman"/>
                </a:rPr>
                <a:t>2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69840" y="5318280"/>
              <a:ext cx="582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99"/>
                  </a:solidFill>
                  <a:latin typeface="Times New Roman"/>
                </a:rPr>
                <a:t>2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641240" y="5029200"/>
              <a:ext cx="5828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99"/>
                  </a:solidFill>
                  <a:latin typeface="Times New Roman"/>
                </a:rPr>
                <a:t>2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336680" y="4632480"/>
              <a:ext cx="5824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99"/>
                  </a:solidFill>
                  <a:latin typeface="Times New Roman"/>
                </a:rPr>
                <a:t>2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233360" y="4235400"/>
              <a:ext cx="58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99"/>
                  </a:solidFill>
                  <a:latin typeface="Times New Roman"/>
                </a:rPr>
                <a:t>25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108080" y="3838680"/>
              <a:ext cx="5824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99"/>
                  </a:solidFill>
                  <a:latin typeface="Times New Roman"/>
                </a:rPr>
                <a:t>2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108080" y="3441960"/>
              <a:ext cx="5824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99"/>
                  </a:solidFill>
                  <a:latin typeface="Times New Roman"/>
                </a:rPr>
                <a:t>27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108080" y="3092400"/>
              <a:ext cx="58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99"/>
                  </a:solidFill>
                  <a:latin typeface="Times New Roman"/>
                </a:rPr>
                <a:t>28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233360" y="2695680"/>
              <a:ext cx="5824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99"/>
                  </a:solidFill>
                  <a:latin typeface="Times New Roman"/>
                </a:rPr>
                <a:t>29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336680" y="2298960"/>
              <a:ext cx="5824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99"/>
                  </a:solidFill>
                  <a:latin typeface="Times New Roman"/>
                </a:rPr>
                <a:t>3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641240" y="1994040"/>
              <a:ext cx="582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99"/>
                  </a:solidFill>
                  <a:latin typeface="Times New Roman"/>
                </a:rPr>
                <a:t>3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919160" y="1657440"/>
              <a:ext cx="5824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99"/>
                  </a:solidFill>
                  <a:latin typeface="Times New Roman"/>
                </a:rPr>
                <a:t>3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224080" y="1489320"/>
              <a:ext cx="5824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99"/>
                  </a:solidFill>
                  <a:latin typeface="Times New Roman"/>
                </a:rPr>
                <a:t>3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555640" y="1260720"/>
              <a:ext cx="582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99"/>
                  </a:solidFill>
                  <a:latin typeface="Times New Roman"/>
                </a:rPr>
                <a:t>3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985840" y="1200240"/>
              <a:ext cx="582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99"/>
                  </a:solidFill>
                  <a:latin typeface="Times New Roman"/>
                </a:rPr>
                <a:t>35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0" name=""/>
          <p:cNvSpPr/>
          <p:nvPr/>
        </p:nvSpPr>
        <p:spPr>
          <a:xfrm>
            <a:off x="6006960" y="1260360"/>
            <a:ext cx="284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在數字之前補上“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0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，使之成為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位數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705720" y="22986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297480" y="3092400"/>
            <a:ext cx="270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或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858000" y="3092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262560" y="42354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225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即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391520" y="4235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西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006960" y="496872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南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858000" y="4968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1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flipV="1">
            <a:off x="3654360" y="1260000"/>
            <a:ext cx="550800" cy="239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456080" y="5940360"/>
            <a:ext cx="4687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箭號所示之角度為         ，即方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角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，即羅盤方位的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  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935760" y="5940360"/>
            <a:ext cx="83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12.3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842000" y="6477120"/>
            <a:ext cx="88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0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7773480" y="6477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東北偏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新界喇沙中學地理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6435720" y="2755800"/>
            <a:ext cx="270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如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40°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200400" y="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3366"/>
                </a:solidFill>
                <a:latin typeface="Times New Roman"/>
              </a:rPr>
              <a:t>方向</a:t>
            </a:r>
            <a:r>
              <a:rPr b="1" lang="zh-TW" sz="3200" spc="-1" strike="noStrike">
                <a:solidFill>
                  <a:srgbClr val="003366"/>
                </a:solidFill>
                <a:latin typeface="Times New Roman"/>
              </a:rPr>
              <a:t>(3)-</a:t>
            </a:r>
            <a:r>
              <a:rPr b="1" lang="zh-TW" sz="3200" spc="-1" strike="noStrike">
                <a:solidFill>
                  <a:srgbClr val="003366"/>
                </a:solidFill>
                <a:latin typeface="Times New Roman"/>
              </a:rPr>
              <a:t>象限角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006960" y="1260360"/>
            <a:ext cx="284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在角度之前加上</a:t>
            </a:r>
            <a:r>
              <a:rPr b="1" lang="zh-TW" sz="2400" spc="-1" strike="noStrike">
                <a:solidFill>
                  <a:srgbClr val="000099"/>
                </a:solidFill>
                <a:latin typeface="Times New Roman"/>
              </a:rPr>
              <a:t>“北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zh-TW" sz="2400" spc="-1" strike="noStrike">
                <a:solidFill>
                  <a:srgbClr val="000099"/>
                </a:solidFill>
                <a:latin typeface="Times New Roman"/>
              </a:rPr>
              <a:t>“南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，在角度之後加上</a:t>
            </a:r>
            <a:r>
              <a:rPr b="1" lang="zh-TW" sz="2400" spc="-1" strike="noStrike">
                <a:solidFill>
                  <a:srgbClr val="000099"/>
                </a:solidFill>
                <a:latin typeface="Times New Roman"/>
              </a:rPr>
              <a:t>“東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zh-TW" sz="2400" spc="-1" strike="noStrike">
                <a:solidFill>
                  <a:srgbClr val="000099"/>
                </a:solidFill>
                <a:latin typeface="Times New Roman"/>
              </a:rPr>
              <a:t>“西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536840" y="5962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038240" y="5962680"/>
            <a:ext cx="270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或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75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V="1">
            <a:off x="3584520" y="1889280"/>
            <a:ext cx="1201680" cy="1449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1093680" y="942840"/>
            <a:ext cx="4911120" cy="4911120"/>
            <a:chOff x="1093680" y="942840"/>
            <a:chExt cx="4911120" cy="4911120"/>
          </a:xfrm>
        </p:grpSpPr>
        <p:grpSp>
          <p:nvGrpSpPr>
            <p:cNvPr id="670" name=""/>
            <p:cNvGrpSpPr/>
            <p:nvPr/>
          </p:nvGrpSpPr>
          <p:grpSpPr>
            <a:xfrm>
              <a:off x="1093680" y="942840"/>
              <a:ext cx="4911120" cy="4911120"/>
              <a:chOff x="1093680" y="942840"/>
              <a:chExt cx="4911120" cy="4911120"/>
            </a:xfrm>
          </p:grpSpPr>
          <p:sp>
            <p:nvSpPr>
              <p:cNvPr id="671" name=""/>
              <p:cNvSpPr/>
              <p:nvPr/>
            </p:nvSpPr>
            <p:spPr>
              <a:xfrm>
                <a:off x="1093680" y="3398400"/>
                <a:ext cx="4911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flipV="1">
                <a:off x="3549240" y="942840"/>
                <a:ext cx="0" cy="491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flipV="1">
                <a:off x="3123000" y="980280"/>
                <a:ext cx="852480" cy="483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1093680" y="942840"/>
                <a:ext cx="4911120" cy="49111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H="1" flipV="1">
                <a:off x="3123000" y="980280"/>
                <a:ext cx="852480" cy="483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flipH="1">
                <a:off x="1093680" y="3398400"/>
                <a:ext cx="4911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flipV="1">
                <a:off x="2709360" y="1090800"/>
                <a:ext cx="1679760" cy="461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flipV="1">
                <a:off x="2321640" y="1271880"/>
                <a:ext cx="2455560" cy="425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flipV="1">
                <a:off x="1971000" y="1517400"/>
                <a:ext cx="3156480" cy="376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flipV="1">
                <a:off x="1668240" y="1820160"/>
                <a:ext cx="3762000" cy="315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flipV="1">
                <a:off x="1422720" y="2170440"/>
                <a:ext cx="4253040" cy="245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flipV="1">
                <a:off x="1241640" y="2558520"/>
                <a:ext cx="4615200" cy="1679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flipV="1">
                <a:off x="1131120" y="2972160"/>
                <a:ext cx="4836240" cy="852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4" name=""/>
            <p:cNvGrpSpPr/>
            <p:nvPr/>
          </p:nvGrpSpPr>
          <p:grpSpPr>
            <a:xfrm>
              <a:off x="1093680" y="942840"/>
              <a:ext cx="4911120" cy="4911120"/>
              <a:chOff x="1093680" y="942840"/>
              <a:chExt cx="4911120" cy="4911120"/>
            </a:xfrm>
          </p:grpSpPr>
          <p:sp>
            <p:nvSpPr>
              <p:cNvPr id="685" name=""/>
              <p:cNvSpPr/>
              <p:nvPr/>
            </p:nvSpPr>
            <p:spPr>
              <a:xfrm flipV="1">
                <a:off x="3549240" y="942840"/>
                <a:ext cx="0" cy="491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flipH="1">
                <a:off x="1093680" y="3398400"/>
                <a:ext cx="4911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flipH="1" flipV="1">
                <a:off x="1131120" y="2972160"/>
                <a:ext cx="4836240" cy="852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16200000">
                <a:off x="1093680" y="942840"/>
                <a:ext cx="4911120" cy="49111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flipH="1">
                <a:off x="1131120" y="2972160"/>
                <a:ext cx="4836240" cy="852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3549240" y="942840"/>
                <a:ext cx="0" cy="491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flipH="1" flipV="1">
                <a:off x="1241640" y="2558520"/>
                <a:ext cx="4615200" cy="1679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H="1" flipV="1">
                <a:off x="1422720" y="2170800"/>
                <a:ext cx="4253040" cy="245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flipH="1" flipV="1">
                <a:off x="1668240" y="1820160"/>
                <a:ext cx="3762000" cy="315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H="1" flipV="1">
                <a:off x="1971000" y="1517400"/>
                <a:ext cx="3156480" cy="376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H="1" flipV="1">
                <a:off x="2321280" y="1271880"/>
                <a:ext cx="2455920" cy="425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flipH="1" flipV="1">
                <a:off x="2709360" y="1090800"/>
                <a:ext cx="1679760" cy="461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H="1" flipV="1">
                <a:off x="3123000" y="980280"/>
                <a:ext cx="852480" cy="483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8" name=""/>
          <p:cNvSpPr/>
          <p:nvPr/>
        </p:nvSpPr>
        <p:spPr>
          <a:xfrm>
            <a:off x="3584520" y="882720"/>
            <a:ext cx="8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zh-TW" sz="2000" spc="-1" strike="noStrike">
                <a:solidFill>
                  <a:srgbClr val="000099"/>
                </a:solidFill>
                <a:latin typeface="Times New Roman"/>
              </a:rPr>
              <a:t>10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22840" y="10954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99"/>
                </a:solidFill>
                <a:latin typeface="Times New Roman"/>
              </a:rPr>
              <a:t>20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289320" y="546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329000" y="124776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zh-TW" sz="2000" spc="-1" strike="noStrike">
                <a:solidFill>
                  <a:srgbClr val="000099"/>
                </a:solidFill>
                <a:latin typeface="Times New Roman"/>
              </a:rPr>
              <a:t>30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786200" y="149220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99"/>
                </a:solidFill>
                <a:latin typeface="Times New Roman"/>
              </a:rPr>
              <a:t>40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5091120" y="173664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99"/>
                </a:solidFill>
                <a:latin typeface="Times New Roman"/>
              </a:rPr>
              <a:t>50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319720" y="199404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99"/>
                </a:solidFill>
                <a:latin typeface="Times New Roman"/>
              </a:rPr>
              <a:t>60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319720" y="239076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zh-TW" sz="2000" spc="-1" strike="noStrike">
                <a:solidFill>
                  <a:srgbClr val="000099"/>
                </a:solidFill>
                <a:latin typeface="Times New Roman"/>
              </a:rPr>
              <a:t>70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624640" y="2787480"/>
            <a:ext cx="81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99"/>
                </a:solidFill>
                <a:latin typeface="Times New Roman"/>
              </a:rPr>
              <a:t>80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902200" y="317196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319720" y="4375080"/>
            <a:ext cx="6872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99"/>
                </a:solidFill>
                <a:latin typeface="Times New Roman"/>
              </a:rPr>
              <a:t>60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624640" y="3629160"/>
            <a:ext cx="699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99"/>
                </a:solidFill>
                <a:latin typeface="Times New Roman"/>
              </a:rPr>
              <a:t>80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457960" y="3978360"/>
            <a:ext cx="699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99"/>
                </a:solidFill>
                <a:latin typeface="Times New Roman"/>
              </a:rPr>
              <a:t>70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041800" y="4772160"/>
            <a:ext cx="811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99"/>
                </a:solidFill>
                <a:latin typeface="Times New Roman"/>
              </a:rPr>
              <a:t>50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952880" y="5025960"/>
            <a:ext cx="671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99"/>
                </a:solidFill>
                <a:latin typeface="Times New Roman"/>
              </a:rPr>
              <a:t>40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459320" y="5270400"/>
            <a:ext cx="8604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99"/>
                </a:solidFill>
                <a:latin typeface="Times New Roman"/>
              </a:rPr>
              <a:t>30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100400" y="5423040"/>
            <a:ext cx="685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99"/>
                </a:solidFill>
                <a:latin typeface="Times New Roman"/>
              </a:rPr>
              <a:t>20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746520" y="5565600"/>
            <a:ext cx="7128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99"/>
                </a:solidFill>
                <a:latin typeface="Times New Roman"/>
              </a:rPr>
              <a:t>10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881440" y="5575320"/>
            <a:ext cx="703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99"/>
                </a:solidFill>
                <a:latin typeface="Times New Roman"/>
              </a:rPr>
              <a:t>10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347920" y="5457960"/>
            <a:ext cx="941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99"/>
                </a:solidFill>
                <a:latin typeface="Times New Roman"/>
              </a:rPr>
              <a:t>20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119320" y="5286240"/>
            <a:ext cx="7621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99"/>
                </a:solidFill>
                <a:latin typeface="Times New Roman"/>
              </a:rPr>
              <a:t>30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765440" y="5060880"/>
            <a:ext cx="734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99"/>
                </a:solidFill>
                <a:latin typeface="Times New Roman"/>
              </a:rPr>
              <a:t>40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536840" y="4772160"/>
            <a:ext cx="811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99"/>
                </a:solidFill>
                <a:latin typeface="Times New Roman"/>
              </a:rPr>
              <a:t>50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231920" y="4375080"/>
            <a:ext cx="838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99"/>
                </a:solidFill>
                <a:latin typeface="Times New Roman"/>
              </a:rPr>
              <a:t>60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003320" y="3978360"/>
            <a:ext cx="7621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99"/>
                </a:solidFill>
                <a:latin typeface="Times New Roman"/>
              </a:rPr>
              <a:t>70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003320" y="3581280"/>
            <a:ext cx="7081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99"/>
                </a:solidFill>
                <a:latin typeface="Times New Roman"/>
              </a:rPr>
              <a:t>80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9440" y="3232080"/>
            <a:ext cx="5824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1003320" y="2835360"/>
            <a:ext cx="7621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99"/>
                </a:solidFill>
                <a:latin typeface="Times New Roman"/>
              </a:rPr>
              <a:t>80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128600" y="2438280"/>
            <a:ext cx="6858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99"/>
                </a:solidFill>
                <a:latin typeface="Times New Roman"/>
              </a:rPr>
              <a:t>70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231920" y="2041560"/>
            <a:ext cx="838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99"/>
                </a:solidFill>
                <a:latin typeface="Times New Roman"/>
              </a:rPr>
              <a:t>60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407960" y="1690560"/>
            <a:ext cx="811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99"/>
                </a:solidFill>
                <a:latin typeface="Times New Roman"/>
              </a:rPr>
              <a:t>50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814400" y="1400040"/>
            <a:ext cx="6858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99"/>
                </a:solidFill>
                <a:latin typeface="Times New Roman"/>
              </a:rPr>
              <a:t>40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119320" y="1095480"/>
            <a:ext cx="762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99"/>
                </a:solidFill>
                <a:latin typeface="Times New Roman"/>
              </a:rPr>
              <a:t>30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2451240" y="1003320"/>
            <a:ext cx="838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99"/>
                </a:solidFill>
                <a:latin typeface="Times New Roman"/>
              </a:rPr>
              <a:t>20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954160" y="942840"/>
            <a:ext cx="6685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99"/>
                </a:solidFill>
                <a:latin typeface="Times New Roman"/>
              </a:rPr>
              <a:t>10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289320" y="5762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7848720" y="2755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H="1">
            <a:off x="1266840" y="3398760"/>
            <a:ext cx="2317680" cy="57960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858000" y="2755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500200" y="5943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853240" y="537840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若方位為北、南、東、或西，則仍沿用四個基本方向的名稱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549600" y="942840"/>
            <a:ext cx="0" cy="4911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H="1">
            <a:off x="1093680" y="3398760"/>
            <a:ext cx="49118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新界喇沙中學地理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3048120" y="5335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3366"/>
                </a:solidFill>
                <a:latin typeface="Times New Roman"/>
              </a:rPr>
              <a:t>面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581280" y="1523880"/>
            <a:ext cx="2667240" cy="228600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905120" y="50292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660066"/>
                </a:solidFill>
                <a:latin typeface="Times New Roman"/>
              </a:rPr>
              <a:t>請注意面積單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1143000" y="40384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99"/>
                </a:solidFill>
                <a:latin typeface="Times New Roman"/>
              </a:rPr>
              <a:t>若時間不足，請將與面積有關之題目留於最後才處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514600" y="57150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3300"/>
                </a:solidFill>
                <a:latin typeface="Times New Roman"/>
              </a:rPr>
              <a:t>每一答案之間應有足夠之數值差距，故極端接近之答案可以全部忽略不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267080" y="1600200"/>
            <a:ext cx="1447920" cy="380880"/>
          </a:xfrm>
          <a:custGeom>
            <a:avLst/>
            <a:gdLst/>
            <a:ahLst/>
            <a:rect l="l" t="t" r="r" b="b"/>
            <a:pathLst>
              <a:path w="912" h="576">
                <a:moveTo>
                  <a:pt x="0" y="0"/>
                </a:moveTo>
                <a:lnTo>
                  <a:pt x="480" y="240"/>
                </a:lnTo>
                <a:lnTo>
                  <a:pt x="240" y="576"/>
                </a:lnTo>
                <a:lnTo>
                  <a:pt x="912" y="336"/>
                </a:lnTo>
                <a:lnTo>
                  <a:pt x="864" y="48"/>
                </a:lnTo>
                <a:lnTo>
                  <a:pt x="0" y="0"/>
                </a:lnTo>
                <a:close/>
              </a:path>
            </a:pathLst>
          </a:custGeom>
          <a:solidFill>
            <a:srgbClr val="e1e1b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261680" y="106560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細明體"/>
                <a:ea typeface="細明體"/>
              </a:rPr>
              <a:t>請同時下載</a:t>
            </a:r>
            <a:r>
              <a:rPr b="0" lang="zh-TW" sz="2400" spc="-1" strike="noStrike">
                <a:solidFill>
                  <a:srgbClr val="0099cc"/>
                </a:solidFill>
                <a:latin typeface="細明體"/>
                <a:ea typeface="細明體"/>
              </a:rPr>
              <a:t>「如何在地圖上計算實際面積？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新界喇沙中學地理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"/>
          <p:cNvSpPr/>
          <p:nvPr/>
        </p:nvSpPr>
        <p:spPr>
          <a:xfrm>
            <a:off x="3200400" y="60948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3366"/>
                </a:solidFill>
                <a:latin typeface="Times New Roman"/>
              </a:rPr>
              <a:t>坡度</a:t>
            </a:r>
            <a:r>
              <a:rPr b="1" lang="zh-TW" sz="3200" spc="-1" strike="noStrike">
                <a:solidFill>
                  <a:srgbClr val="003366"/>
                </a:solidFill>
                <a:latin typeface="Times New Roman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133720" y="1905120"/>
            <a:ext cx="3450960" cy="685800"/>
          </a:xfrm>
          <a:prstGeom prst="rtTriangl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"/>
          <p:cNvGrpSpPr/>
          <p:nvPr/>
        </p:nvGrpSpPr>
        <p:grpSpPr>
          <a:xfrm>
            <a:off x="2133720" y="2895120"/>
            <a:ext cx="5635440" cy="698040"/>
            <a:chOff x="2133720" y="2895120"/>
            <a:chExt cx="5635440" cy="698040"/>
          </a:xfrm>
        </p:grpSpPr>
        <p:sp>
          <p:nvSpPr>
            <p:cNvPr id="751" name=""/>
            <p:cNvSpPr/>
            <p:nvPr/>
          </p:nvSpPr>
          <p:spPr>
            <a:xfrm>
              <a:off x="6943680" y="3124080"/>
              <a:ext cx="82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0000"/>
                  </a:solidFill>
                  <a:latin typeface="Times New Roman"/>
                </a:rPr>
                <a:t>厘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2" name=""/>
            <p:cNvGrpSpPr/>
            <p:nvPr/>
          </p:nvGrpSpPr>
          <p:grpSpPr>
            <a:xfrm>
              <a:off x="2133720" y="2895120"/>
              <a:ext cx="5516640" cy="698040"/>
              <a:chOff x="2133720" y="2895120"/>
              <a:chExt cx="5516640" cy="698040"/>
            </a:xfrm>
          </p:grpSpPr>
          <p:grpSp>
            <p:nvGrpSpPr>
              <p:cNvPr id="753" name=""/>
              <p:cNvGrpSpPr/>
              <p:nvPr/>
            </p:nvGrpSpPr>
            <p:grpSpPr>
              <a:xfrm>
                <a:off x="2133720" y="2900160"/>
                <a:ext cx="4151160" cy="693000"/>
                <a:chOff x="2133720" y="2900160"/>
                <a:chExt cx="4151160" cy="693000"/>
              </a:xfrm>
            </p:grpSpPr>
            <p:sp>
              <p:nvSpPr>
                <p:cNvPr id="754" name=""/>
                <p:cNvSpPr/>
                <p:nvPr/>
              </p:nvSpPr>
              <p:spPr>
                <a:xfrm>
                  <a:off x="2691000" y="3194280"/>
                  <a:ext cx="304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3379680" y="3194280"/>
                  <a:ext cx="304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4070520" y="3189600"/>
                  <a:ext cx="304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4759200" y="3189600"/>
                  <a:ext cx="304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5446800" y="3189600"/>
                  <a:ext cx="304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2133720" y="2900520"/>
                  <a:ext cx="4140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 flipV="1">
                  <a:off x="2419560" y="290052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 flipV="1">
                  <a:off x="2281320" y="290052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 flipV="1">
                  <a:off x="2144880" y="2900160"/>
                  <a:ext cx="0" cy="685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 flipV="1">
                  <a:off x="2557440" y="290052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 flipV="1">
                  <a:off x="2970360" y="290052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 flipV="1">
                  <a:off x="2832120" y="2900160"/>
                  <a:ext cx="0" cy="289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 flipV="1">
                  <a:off x="2693880" y="290052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 flipV="1">
                  <a:off x="3106800" y="290052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 flipV="1">
                  <a:off x="3521160" y="2900160"/>
                  <a:ext cx="0" cy="289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 flipV="1">
                  <a:off x="3382920" y="290052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 flipV="1">
                  <a:off x="3245040" y="290052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 flipV="1">
                  <a:off x="3657600" y="290052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 flipV="1">
                  <a:off x="4070520" y="290052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 flipV="1">
                  <a:off x="3933720" y="290052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 flipV="1">
                  <a:off x="3795840" y="290052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 flipV="1">
                  <a:off x="4208400" y="2900160"/>
                  <a:ext cx="0" cy="289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 flipV="1">
                  <a:off x="4621320" y="290052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 flipV="1">
                  <a:off x="4483080" y="290052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 flipV="1">
                  <a:off x="4346640" y="290052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 flipV="1">
                  <a:off x="4759200" y="290052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 flipV="1">
                  <a:off x="5722920" y="290052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 flipV="1">
                  <a:off x="5585040" y="2900160"/>
                  <a:ext cx="0" cy="289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 flipV="1">
                  <a:off x="5446800" y="290052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 flipV="1">
                  <a:off x="5859360" y="290052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 flipV="1">
                  <a:off x="5172120" y="290052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 flipV="1">
                  <a:off x="5033880" y="290052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 flipV="1">
                  <a:off x="4897440" y="2900160"/>
                  <a:ext cx="0" cy="289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 flipV="1">
                  <a:off x="5310360" y="290052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 flipV="1">
                  <a:off x="6135840" y="290052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 flipV="1">
                  <a:off x="5997600" y="290052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2144880" y="3586320"/>
                  <a:ext cx="4140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1" name=""/>
              <p:cNvSpPr/>
              <p:nvPr/>
            </p:nvSpPr>
            <p:spPr>
              <a:xfrm>
                <a:off x="6105600" y="318456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6823080" y="318924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6262560" y="2895480"/>
                <a:ext cx="1387800" cy="5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flipV="1">
                <a:off x="6548400" y="2895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flipV="1">
                <a:off x="6410520" y="2895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flipV="1">
                <a:off x="6273720" y="2895480"/>
                <a:ext cx="0" cy="293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flipV="1">
                <a:off x="6686640" y="2895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flipV="1">
                <a:off x="7099200" y="2895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flipV="1">
                <a:off x="6961320" y="2895120"/>
                <a:ext cx="0" cy="289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flipV="1">
                <a:off x="6823080" y="2895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flipV="1">
                <a:off x="7236000" y="2895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flipV="1">
                <a:off x="7650360" y="289512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flipV="1">
                <a:off x="7512120" y="2895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flipV="1">
                <a:off x="7373880" y="2895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6273720" y="3581280"/>
                <a:ext cx="1376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6" name=""/>
          <p:cNvGrpSpPr/>
          <p:nvPr/>
        </p:nvGrpSpPr>
        <p:grpSpPr>
          <a:xfrm>
            <a:off x="1217160" y="1863720"/>
            <a:ext cx="697320" cy="5635440"/>
            <a:chOff x="1217160" y="1863720"/>
            <a:chExt cx="697320" cy="5635440"/>
          </a:xfrm>
        </p:grpSpPr>
        <p:sp>
          <p:nvSpPr>
            <p:cNvPr id="807" name=""/>
            <p:cNvSpPr/>
            <p:nvPr/>
          </p:nvSpPr>
          <p:spPr>
            <a:xfrm rot="5400000">
              <a:off x="1043280" y="6856560"/>
              <a:ext cx="82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0000"/>
                  </a:solidFill>
                  <a:latin typeface="Times New Roman"/>
                </a:rPr>
                <a:t>厘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8" name=""/>
            <p:cNvGrpSpPr/>
            <p:nvPr/>
          </p:nvGrpSpPr>
          <p:grpSpPr>
            <a:xfrm>
              <a:off x="1217160" y="1863720"/>
              <a:ext cx="697320" cy="5516640"/>
              <a:chOff x="1217160" y="1863720"/>
              <a:chExt cx="697320" cy="5516640"/>
            </a:xfrm>
          </p:grpSpPr>
          <p:grpSp>
            <p:nvGrpSpPr>
              <p:cNvPr id="809" name=""/>
              <p:cNvGrpSpPr/>
              <p:nvPr/>
            </p:nvGrpSpPr>
            <p:grpSpPr>
              <a:xfrm>
                <a:off x="1217160" y="1863720"/>
                <a:ext cx="692640" cy="4151160"/>
                <a:chOff x="1217160" y="1863720"/>
                <a:chExt cx="692640" cy="4151160"/>
              </a:xfrm>
            </p:grpSpPr>
            <p:sp>
              <p:nvSpPr>
                <p:cNvPr id="810" name=""/>
                <p:cNvSpPr/>
                <p:nvPr/>
              </p:nvSpPr>
              <p:spPr>
                <a:xfrm rot="5400000">
                  <a:off x="1264320" y="2373840"/>
                  <a:ext cx="304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 rot="5400000">
                  <a:off x="1263960" y="3062520"/>
                  <a:ext cx="304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 rot="5400000">
                  <a:off x="1269000" y="3753360"/>
                  <a:ext cx="304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 rot="5400000">
                  <a:off x="1268640" y="4442040"/>
                  <a:ext cx="304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 rot="5400000">
                  <a:off x="1268640" y="5129640"/>
                  <a:ext cx="304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1909440" y="1863720"/>
                  <a:ext cx="0" cy="4140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1757520" y="214956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1757520" y="201132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1224000" y="1874880"/>
                  <a:ext cx="685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1757520" y="228744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1757520" y="270036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1620720" y="2562120"/>
                  <a:ext cx="288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1757520" y="242388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1757520" y="283680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1620720" y="3251160"/>
                  <a:ext cx="288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1757520" y="311292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1757520" y="297504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1757520" y="338760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1757520" y="380052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1757520" y="366372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1757520" y="352584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1620720" y="3938400"/>
                  <a:ext cx="288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1757520" y="435132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1757520" y="421308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1757520" y="407664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1757520" y="448920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1757520" y="545292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1620720" y="5315040"/>
                  <a:ext cx="288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1757520" y="517680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1757520" y="558936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1757520" y="490212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1757520" y="476388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1620720" y="4627440"/>
                  <a:ext cx="288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1757520" y="504036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1757520" y="586584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1757520" y="572760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1224000" y="1874880"/>
                  <a:ext cx="0" cy="4140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7" name=""/>
              <p:cNvSpPr/>
              <p:nvPr/>
            </p:nvSpPr>
            <p:spPr>
              <a:xfrm rot="5400000">
                <a:off x="1273320" y="578844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5400000">
                <a:off x="1268640" y="650592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1909440" y="5992560"/>
                <a:ext cx="4680" cy="138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1762200" y="627840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1762200" y="614052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1621080" y="6003720"/>
                <a:ext cx="293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1762200" y="641664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762200" y="682920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1625400" y="6691320"/>
                <a:ext cx="288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1762200" y="655308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1762200" y="696600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1228680" y="738036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762200" y="724212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1762200" y="710388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1228680" y="6003720"/>
                <a:ext cx="0" cy="1376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62" name=""/>
          <p:cNvSpPr/>
          <p:nvPr/>
        </p:nvSpPr>
        <p:spPr>
          <a:xfrm>
            <a:off x="3668760" y="4056120"/>
            <a:ext cx="1662120" cy="459720"/>
          </a:xfrm>
          <a:prstGeom prst="borderCallout3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水平距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154080" y="1133640"/>
            <a:ext cx="1744560" cy="45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4171" y="52428"/>
                </a:moveTo>
                <a:lnTo>
                  <a:pt x="22543" y="5290"/>
                </a:lnTo>
              </a:path>
              <a:path w="21600" h="21600">
                <a:moveTo>
                  <a:pt x="22543" y="0"/>
                </a:moveTo>
                <a:lnTo>
                  <a:pt x="22543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垂直距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1870200" y="4675320"/>
            <a:ext cx="34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Times New Roman"/>
              </a:rPr>
              <a:t>垂直距離</a:t>
            </a:r>
            <a:r>
              <a:rPr b="1" lang="zh-TW" sz="2400" spc="-1" strike="noStrike">
                <a:solidFill>
                  <a:srgbClr val="003366"/>
                </a:solidFill>
                <a:latin typeface="Times New Roman"/>
              </a:rPr>
              <a:t>=1</a:t>
            </a:r>
            <a:r>
              <a:rPr b="1" lang="zh-TW" sz="2400" spc="-1" strike="noStrike">
                <a:solidFill>
                  <a:srgbClr val="003366"/>
                </a:solidFill>
                <a:latin typeface="Times New Roman"/>
              </a:rPr>
              <a:t>厘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911240" y="5218200"/>
            <a:ext cx="34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Times New Roman"/>
              </a:rPr>
              <a:t>水平距離</a:t>
            </a:r>
            <a:r>
              <a:rPr b="1" lang="zh-TW" sz="2400" spc="-1" strike="noStrike">
                <a:solidFill>
                  <a:srgbClr val="003366"/>
                </a:solidFill>
                <a:latin typeface="Times New Roman"/>
              </a:rPr>
              <a:t>=5</a:t>
            </a:r>
            <a:r>
              <a:rPr b="1" lang="zh-TW" sz="2400" spc="-1" strike="noStrike">
                <a:solidFill>
                  <a:srgbClr val="003366"/>
                </a:solidFill>
                <a:latin typeface="Times New Roman"/>
              </a:rPr>
              <a:t>厘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905120" y="5729400"/>
            <a:ext cx="34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Times New Roman"/>
              </a:rPr>
              <a:t>坡度 </a:t>
            </a:r>
            <a:r>
              <a:rPr b="1" lang="zh-TW" sz="2400" spc="-1" strike="noStrike">
                <a:solidFill>
                  <a:srgbClr val="003366"/>
                </a:solidFill>
                <a:latin typeface="Times New Roman"/>
              </a:rPr>
              <a:t>= 1 / 5 = 1 :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1959120" y="6186600"/>
            <a:ext cx="567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Times New Roman"/>
              </a:rPr>
              <a:t>1 / 2 </a:t>
            </a:r>
            <a:r>
              <a:rPr b="1" lang="zh-TW" sz="2800" spc="-1" strike="noStrike">
                <a:solidFill>
                  <a:srgbClr val="ff0000"/>
                </a:solidFill>
                <a:latin typeface="Times New Roman"/>
              </a:rPr>
              <a:t>較 </a:t>
            </a:r>
            <a:r>
              <a:rPr b="1" lang="zh-TW" sz="2800" spc="-1" strike="noStrike">
                <a:solidFill>
                  <a:srgbClr val="ff0000"/>
                </a:solidFill>
                <a:latin typeface="Times New Roman"/>
              </a:rPr>
              <a:t>1 / 5</a:t>
            </a:r>
            <a:r>
              <a:rPr b="1" lang="zh-TW" sz="2800" spc="-1" strike="noStrike">
                <a:solidFill>
                  <a:srgbClr val="ff0000"/>
                </a:solidFill>
                <a:latin typeface="Times New Roman"/>
              </a:rPr>
              <a:t>為斜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5692680" y="4626000"/>
            <a:ext cx="1387440" cy="685800"/>
          </a:xfrm>
          <a:prstGeom prst="rtTriangl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9" name=""/>
          <p:cNvGrpSpPr/>
          <p:nvPr/>
        </p:nvGrpSpPr>
        <p:grpSpPr>
          <a:xfrm>
            <a:off x="5692680" y="5303520"/>
            <a:ext cx="5635440" cy="697320"/>
            <a:chOff x="5692680" y="5303520"/>
            <a:chExt cx="5635440" cy="697320"/>
          </a:xfrm>
        </p:grpSpPr>
        <p:sp>
          <p:nvSpPr>
            <p:cNvPr id="870" name=""/>
            <p:cNvSpPr/>
            <p:nvPr/>
          </p:nvSpPr>
          <p:spPr>
            <a:xfrm>
              <a:off x="10502640" y="5532120"/>
              <a:ext cx="82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0000"/>
                  </a:solidFill>
                  <a:latin typeface="Times New Roman"/>
                </a:rPr>
                <a:t>厘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1" name=""/>
            <p:cNvGrpSpPr/>
            <p:nvPr/>
          </p:nvGrpSpPr>
          <p:grpSpPr>
            <a:xfrm>
              <a:off x="5692680" y="5303520"/>
              <a:ext cx="5516640" cy="697320"/>
              <a:chOff x="5692680" y="5303520"/>
              <a:chExt cx="5516640" cy="697320"/>
            </a:xfrm>
          </p:grpSpPr>
          <p:grpSp>
            <p:nvGrpSpPr>
              <p:cNvPr id="872" name=""/>
              <p:cNvGrpSpPr/>
              <p:nvPr/>
            </p:nvGrpSpPr>
            <p:grpSpPr>
              <a:xfrm>
                <a:off x="5692680" y="5308200"/>
                <a:ext cx="4151160" cy="692640"/>
                <a:chOff x="5692680" y="5308200"/>
                <a:chExt cx="4151160" cy="692640"/>
              </a:xfrm>
            </p:grpSpPr>
            <p:sp>
              <p:nvSpPr>
                <p:cNvPr id="873" name=""/>
                <p:cNvSpPr/>
                <p:nvPr/>
              </p:nvSpPr>
              <p:spPr>
                <a:xfrm>
                  <a:off x="6249960" y="5601960"/>
                  <a:ext cx="304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6938640" y="5601960"/>
                  <a:ext cx="304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7629480" y="5597280"/>
                  <a:ext cx="304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8318160" y="5597280"/>
                  <a:ext cx="304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9005760" y="5597280"/>
                  <a:ext cx="304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5692680" y="5308560"/>
                  <a:ext cx="4140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 flipV="1">
                  <a:off x="5978520" y="530820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 flipV="1">
                  <a:off x="5840280" y="530820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 flipV="1">
                  <a:off x="5703840" y="5308560"/>
                  <a:ext cx="0" cy="685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 flipV="1">
                  <a:off x="6116400" y="530820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 flipV="1">
                  <a:off x="6529320" y="530820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 flipV="1">
                  <a:off x="6391080" y="5308560"/>
                  <a:ext cx="0" cy="288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 flipV="1">
                  <a:off x="6252840" y="530820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 flipV="1">
                  <a:off x="6665760" y="530820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 flipV="1">
                  <a:off x="7080120" y="5308560"/>
                  <a:ext cx="0" cy="288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 flipV="1">
                  <a:off x="6941880" y="530820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 flipV="1">
                  <a:off x="6804000" y="530820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 flipV="1">
                  <a:off x="7216560" y="530820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 flipV="1">
                  <a:off x="7629480" y="530820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 flipV="1">
                  <a:off x="7492680" y="530820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 flipV="1">
                  <a:off x="7354800" y="530820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 flipV="1">
                  <a:off x="7767360" y="5308560"/>
                  <a:ext cx="0" cy="288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 flipV="1">
                  <a:off x="8180280" y="530820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 flipV="1">
                  <a:off x="8042040" y="530820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 flipV="1">
                  <a:off x="7905600" y="530820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 flipV="1">
                  <a:off x="8318160" y="530820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 flipV="1">
                  <a:off x="9281880" y="530820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 flipV="1">
                  <a:off x="9144000" y="5308560"/>
                  <a:ext cx="0" cy="288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 flipV="1">
                  <a:off x="9005760" y="530820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 flipV="1">
                  <a:off x="9418320" y="530820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 flipV="1">
                  <a:off x="8731080" y="530820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 flipV="1">
                  <a:off x="8592840" y="530820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 flipV="1">
                  <a:off x="8456400" y="5308560"/>
                  <a:ext cx="0" cy="288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 flipV="1">
                  <a:off x="8869320" y="530820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 flipV="1">
                  <a:off x="9694800" y="530820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 flipV="1">
                  <a:off x="9556560" y="530820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5703840" y="5994000"/>
                  <a:ext cx="4140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10" name=""/>
              <p:cNvSpPr/>
              <p:nvPr/>
            </p:nvSpPr>
            <p:spPr>
              <a:xfrm>
                <a:off x="9664560" y="559260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0382040" y="559728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9821520" y="5303880"/>
                <a:ext cx="138780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flipV="1">
                <a:off x="10107360" y="5303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 flipV="1">
                <a:off x="9969480" y="5303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flipV="1">
                <a:off x="9832680" y="5303520"/>
                <a:ext cx="0" cy="293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 flipV="1">
                <a:off x="10245600" y="5303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 flipV="1">
                <a:off x="10658160" y="5303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 flipV="1">
                <a:off x="10520280" y="5303880"/>
                <a:ext cx="0" cy="288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 flipV="1">
                <a:off x="10382040" y="5303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 flipV="1">
                <a:off x="10794960" y="5303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 flipV="1">
                <a:off x="11209320" y="530388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 flipV="1">
                <a:off x="11071080" y="5303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 flipV="1">
                <a:off x="10932840" y="5303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9832680" y="5989320"/>
                <a:ext cx="1376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25" name=""/>
          <p:cNvGrpSpPr/>
          <p:nvPr/>
        </p:nvGrpSpPr>
        <p:grpSpPr>
          <a:xfrm>
            <a:off x="4995360" y="4622760"/>
            <a:ext cx="697320" cy="5635440"/>
            <a:chOff x="4995360" y="4622760"/>
            <a:chExt cx="697320" cy="5635440"/>
          </a:xfrm>
        </p:grpSpPr>
        <p:sp>
          <p:nvSpPr>
            <p:cNvPr id="926" name=""/>
            <p:cNvSpPr/>
            <p:nvPr/>
          </p:nvSpPr>
          <p:spPr>
            <a:xfrm rot="5400000">
              <a:off x="4821480" y="9615600"/>
              <a:ext cx="82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0000"/>
                  </a:solidFill>
                  <a:latin typeface="Times New Roman"/>
                </a:rPr>
                <a:t>厘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7" name=""/>
            <p:cNvGrpSpPr/>
            <p:nvPr/>
          </p:nvGrpSpPr>
          <p:grpSpPr>
            <a:xfrm>
              <a:off x="4995360" y="4622760"/>
              <a:ext cx="697320" cy="5516640"/>
              <a:chOff x="4995360" y="4622760"/>
              <a:chExt cx="697320" cy="5516640"/>
            </a:xfrm>
          </p:grpSpPr>
          <p:grpSp>
            <p:nvGrpSpPr>
              <p:cNvPr id="928" name=""/>
              <p:cNvGrpSpPr/>
              <p:nvPr/>
            </p:nvGrpSpPr>
            <p:grpSpPr>
              <a:xfrm>
                <a:off x="4995360" y="4622760"/>
                <a:ext cx="692640" cy="4151160"/>
                <a:chOff x="4995360" y="4622760"/>
                <a:chExt cx="692640" cy="4151160"/>
              </a:xfrm>
            </p:grpSpPr>
            <p:sp>
              <p:nvSpPr>
                <p:cNvPr id="929" name=""/>
                <p:cNvSpPr/>
                <p:nvPr/>
              </p:nvSpPr>
              <p:spPr>
                <a:xfrm rot="5400000">
                  <a:off x="5042520" y="5132880"/>
                  <a:ext cx="304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 rot="5400000">
                  <a:off x="5042160" y="5821560"/>
                  <a:ext cx="304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 rot="5400000">
                  <a:off x="5047200" y="6512400"/>
                  <a:ext cx="304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 rot="5400000">
                  <a:off x="5046840" y="7201080"/>
                  <a:ext cx="304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 rot="5400000">
                  <a:off x="5046840" y="7888680"/>
                  <a:ext cx="304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>
                  <a:off x="5687640" y="4622760"/>
                  <a:ext cx="0" cy="4140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5535720" y="490860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5535720" y="477036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5002200" y="4633920"/>
                  <a:ext cx="685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5535720" y="504648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>
                  <a:off x="5535720" y="545940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5398920" y="5321160"/>
                  <a:ext cx="288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5535720" y="518292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>
                  <a:off x="5535720" y="559584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>
                  <a:off x="5398920" y="6010200"/>
                  <a:ext cx="288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5535720" y="587196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5535720" y="573408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5535720" y="614664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5535720" y="655956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5535720" y="642276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5535720" y="628488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5398920" y="6697440"/>
                  <a:ext cx="288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5535720" y="711036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5535720" y="697212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5535720" y="683568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5535720" y="724824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5535720" y="821196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5398920" y="8074080"/>
                  <a:ext cx="288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5535720" y="793584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5535720" y="834840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5535720" y="766116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5535720" y="752292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5398920" y="7386480"/>
                  <a:ext cx="288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5535720" y="779940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5535720" y="862488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5535720" y="848664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5002200" y="4633920"/>
                  <a:ext cx="0" cy="4140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66" name=""/>
              <p:cNvSpPr/>
              <p:nvPr/>
            </p:nvSpPr>
            <p:spPr>
              <a:xfrm rot="5400000">
                <a:off x="5051520" y="854748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 rot="5400000">
                <a:off x="5046840" y="926496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 flipH="1">
                <a:off x="5687640" y="8751600"/>
                <a:ext cx="4680" cy="138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5540400" y="903744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5540400" y="889956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5399280" y="8762760"/>
                <a:ext cx="293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5540400" y="917568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5540400" y="958824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5403600" y="9450360"/>
                <a:ext cx="288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5540400" y="931212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5540400" y="972504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5006880" y="1013940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5540400" y="1000116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5540400" y="986292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5006880" y="8762760"/>
                <a:ext cx="0" cy="1376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81" name=""/>
          <p:cNvSpPr/>
          <p:nvPr/>
        </p:nvSpPr>
        <p:spPr>
          <a:xfrm>
            <a:off x="5983200" y="1539720"/>
            <a:ext cx="914400" cy="609840"/>
          </a:xfrm>
          <a:prstGeom prst="borderCallout1">
            <a:avLst>
              <a:gd name="adj1" fmla="val 18750"/>
              <a:gd name="adj2" fmla="val -8333"/>
              <a:gd name="adj3" fmla="val 164064"/>
              <a:gd name="adj4" fmla="val -908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11.3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7934400" y="400860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141407"/>
              <a:gd name="adj4" fmla="val -7638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26.6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4419720" y="2362320"/>
            <a:ext cx="75960" cy="228600"/>
          </a:xfrm>
          <a:custGeom>
            <a:avLst/>
            <a:gdLst/>
            <a:ahLst/>
            <a:rect l="l" t="t" r="r" b="b"/>
            <a:pathLst>
              <a:path w="112" h="240">
                <a:moveTo>
                  <a:pt x="112" y="0"/>
                </a:moveTo>
                <a:cubicBezTo>
                  <a:pt x="72" y="52"/>
                  <a:pt x="32" y="104"/>
                  <a:pt x="16" y="144"/>
                </a:cubicBezTo>
                <a:cubicBezTo>
                  <a:pt x="0" y="184"/>
                  <a:pt x="16" y="224"/>
                  <a:pt x="16" y="240"/>
                </a:cubicBezTo>
              </a:path>
            </a:pathLst>
          </a:custGeom>
          <a:noFill/>
          <a:ln w="572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400800" y="5029200"/>
            <a:ext cx="76320" cy="304920"/>
          </a:xfrm>
          <a:custGeom>
            <a:avLst/>
            <a:gdLst/>
            <a:ahLst/>
            <a:rect l="l" t="t" r="r" b="b"/>
            <a:pathLst>
              <a:path w="112" h="240">
                <a:moveTo>
                  <a:pt x="112" y="0"/>
                </a:moveTo>
                <a:cubicBezTo>
                  <a:pt x="72" y="52"/>
                  <a:pt x="32" y="104"/>
                  <a:pt x="16" y="144"/>
                </a:cubicBezTo>
                <a:cubicBezTo>
                  <a:pt x="0" y="184"/>
                  <a:pt x="16" y="224"/>
                  <a:pt x="16" y="240"/>
                </a:cubicBezTo>
              </a:path>
            </a:pathLst>
          </a:custGeom>
          <a:noFill/>
          <a:ln w="572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新界喇沙中學地理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200400" y="60948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3366"/>
                </a:solidFill>
                <a:latin typeface="Times New Roman"/>
              </a:rPr>
              <a:t>坡度</a:t>
            </a:r>
            <a:r>
              <a:rPr b="1" lang="zh-TW" sz="3200" spc="-1" strike="noStrike">
                <a:solidFill>
                  <a:srgbClr val="003366"/>
                </a:solidFill>
                <a:latin typeface="Times New Roman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1295280" y="144792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若一小徑呈一曲線，則其平均坡度不能以直線之水平距離量度，而應以</a:t>
            </a:r>
            <a:r>
              <a:rPr b="1" lang="zh-TW" sz="2400" spc="-1" strike="noStrike">
                <a:solidFill>
                  <a:srgbClr val="008000"/>
                </a:solidFill>
                <a:latin typeface="Times New Roman"/>
              </a:rPr>
              <a:t>小徑長度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作水平距離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1828800" y="2895480"/>
            <a:ext cx="2057400" cy="2210040"/>
          </a:xfrm>
          <a:custGeom>
            <a:avLst/>
            <a:gdLst/>
            <a:ahLst/>
            <a:rect l="l" t="t" r="r" b="b"/>
            <a:pathLst>
              <a:path w="1296" h="1392">
                <a:moveTo>
                  <a:pt x="0" y="0"/>
                </a:moveTo>
                <a:lnTo>
                  <a:pt x="0" y="864"/>
                </a:lnTo>
                <a:lnTo>
                  <a:pt x="432" y="912"/>
                </a:lnTo>
                <a:lnTo>
                  <a:pt x="912" y="1104"/>
                </a:lnTo>
                <a:lnTo>
                  <a:pt x="1296" y="1392"/>
                </a:lnTo>
                <a:lnTo>
                  <a:pt x="960" y="960"/>
                </a:lnTo>
                <a:lnTo>
                  <a:pt x="528" y="480"/>
                </a:lnTo>
                <a:lnTo>
                  <a:pt x="0" y="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1828800" y="2895480"/>
            <a:ext cx="2057400" cy="2210040"/>
          </a:xfrm>
          <a:custGeom>
            <a:avLst/>
            <a:gdLst/>
            <a:ahLst/>
            <a:rect l="l" t="t" r="r" b="b"/>
            <a:pathLst>
              <a:path w="1296" h="1392">
                <a:moveTo>
                  <a:pt x="1296" y="1392"/>
                </a:moveTo>
                <a:cubicBezTo>
                  <a:pt x="1160" y="1220"/>
                  <a:pt x="1024" y="1048"/>
                  <a:pt x="912" y="912"/>
                </a:cubicBezTo>
                <a:cubicBezTo>
                  <a:pt x="800" y="776"/>
                  <a:pt x="720" y="680"/>
                  <a:pt x="624" y="576"/>
                </a:cubicBezTo>
                <a:cubicBezTo>
                  <a:pt x="528" y="472"/>
                  <a:pt x="440" y="384"/>
                  <a:pt x="336" y="288"/>
                </a:cubicBezTo>
                <a:cubicBezTo>
                  <a:pt x="232" y="192"/>
                  <a:pt x="116" y="96"/>
                  <a:pt x="0" y="0"/>
                </a:cubicBezTo>
              </a:path>
            </a:pathLst>
          </a:custGeom>
          <a:noFill/>
          <a:ln w="7632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4270320" y="290520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216407"/>
              <a:gd name="adj4" fmla="val -11944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小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1828800" y="4267080"/>
            <a:ext cx="2057400" cy="838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657600" y="5487840"/>
            <a:ext cx="2409840" cy="609840"/>
          </a:xfrm>
          <a:prstGeom prst="borderCallout1">
            <a:avLst>
              <a:gd name="adj1" fmla="val 18750"/>
              <a:gd name="adj2" fmla="val -8333"/>
              <a:gd name="adj3" fmla="val -119273"/>
              <a:gd name="adj4" fmla="val -2648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兩點之直線距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 flipH="1">
            <a:off x="4038480" y="5105520"/>
            <a:ext cx="1524240" cy="14475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4038480" y="5105520"/>
            <a:ext cx="1524240" cy="14475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1828800" y="4267080"/>
            <a:ext cx="1981080" cy="838440"/>
          </a:xfrm>
          <a:custGeom>
            <a:avLst/>
            <a:gdLst/>
            <a:ahLst/>
            <a:rect l="l" t="t" r="r" b="b"/>
            <a:pathLst>
              <a:path w="1248" h="528">
                <a:moveTo>
                  <a:pt x="1248" y="528"/>
                </a:moveTo>
                <a:cubicBezTo>
                  <a:pt x="1204" y="480"/>
                  <a:pt x="1160" y="432"/>
                  <a:pt x="1104" y="384"/>
                </a:cubicBezTo>
                <a:cubicBezTo>
                  <a:pt x="1048" y="336"/>
                  <a:pt x="1000" y="288"/>
                  <a:pt x="912" y="240"/>
                </a:cubicBezTo>
                <a:cubicBezTo>
                  <a:pt x="824" y="192"/>
                  <a:pt x="664" y="128"/>
                  <a:pt x="576" y="96"/>
                </a:cubicBezTo>
                <a:cubicBezTo>
                  <a:pt x="488" y="64"/>
                  <a:pt x="480" y="64"/>
                  <a:pt x="384" y="48"/>
                </a:cubicBezTo>
                <a:cubicBezTo>
                  <a:pt x="288" y="32"/>
                  <a:pt x="64" y="8"/>
                  <a:pt x="0" y="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5141880" y="3992400"/>
            <a:ext cx="3392640" cy="609840"/>
          </a:xfrm>
          <a:prstGeom prst="borderCallout1">
            <a:avLst>
              <a:gd name="adj1" fmla="val 18750"/>
              <a:gd name="adj2" fmla="val -8333"/>
              <a:gd name="adj3" fmla="val 109375"/>
              <a:gd name="adj4" fmla="val -5488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小徑之曲線水平距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 flipH="1" flipV="1">
            <a:off x="6044040" y="3919320"/>
            <a:ext cx="617400" cy="6951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H="1">
            <a:off x="6629040" y="3186000"/>
            <a:ext cx="1523880" cy="14479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新界喇沙中學地理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"/>
          <p:cNvSpPr/>
          <p:nvPr/>
        </p:nvSpPr>
        <p:spPr>
          <a:xfrm>
            <a:off x="3200400" y="15228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3366"/>
                </a:solidFill>
                <a:latin typeface="Times New Roman"/>
              </a:rPr>
              <a:t>垂直誇張率</a:t>
            </a:r>
            <a:r>
              <a:rPr b="1" lang="zh-TW" sz="3200" spc="-1" strike="noStrike">
                <a:solidFill>
                  <a:srgbClr val="003366"/>
                </a:solidFill>
                <a:latin typeface="Times New Roman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9" name=""/>
          <p:cNvGrpSpPr/>
          <p:nvPr/>
        </p:nvGrpSpPr>
        <p:grpSpPr>
          <a:xfrm>
            <a:off x="3123720" y="1805040"/>
            <a:ext cx="697320" cy="5635440"/>
            <a:chOff x="3123720" y="1805040"/>
            <a:chExt cx="697320" cy="5635440"/>
          </a:xfrm>
        </p:grpSpPr>
        <p:sp>
          <p:nvSpPr>
            <p:cNvPr id="1000" name=""/>
            <p:cNvSpPr/>
            <p:nvPr/>
          </p:nvSpPr>
          <p:spPr>
            <a:xfrm rot="5400000">
              <a:off x="2949840" y="6797880"/>
              <a:ext cx="82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0000"/>
                  </a:solidFill>
                  <a:latin typeface="Times New Roman"/>
                </a:rPr>
                <a:t>厘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1" name=""/>
            <p:cNvGrpSpPr/>
            <p:nvPr/>
          </p:nvGrpSpPr>
          <p:grpSpPr>
            <a:xfrm>
              <a:off x="3123720" y="1805040"/>
              <a:ext cx="697320" cy="5516640"/>
              <a:chOff x="3123720" y="1805040"/>
              <a:chExt cx="697320" cy="5516640"/>
            </a:xfrm>
          </p:grpSpPr>
          <p:grpSp>
            <p:nvGrpSpPr>
              <p:cNvPr id="1002" name=""/>
              <p:cNvGrpSpPr/>
              <p:nvPr/>
            </p:nvGrpSpPr>
            <p:grpSpPr>
              <a:xfrm>
                <a:off x="3123720" y="1805040"/>
                <a:ext cx="692640" cy="4151160"/>
                <a:chOff x="3123720" y="1805040"/>
                <a:chExt cx="692640" cy="4151160"/>
              </a:xfrm>
            </p:grpSpPr>
            <p:sp>
              <p:nvSpPr>
                <p:cNvPr id="1003" name=""/>
                <p:cNvSpPr/>
                <p:nvPr/>
              </p:nvSpPr>
              <p:spPr>
                <a:xfrm rot="5400000">
                  <a:off x="3170880" y="2315160"/>
                  <a:ext cx="304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 rot="5400000">
                  <a:off x="3170520" y="3003840"/>
                  <a:ext cx="304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 rot="5400000">
                  <a:off x="3175560" y="3694680"/>
                  <a:ext cx="304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 rot="5400000">
                  <a:off x="3175200" y="4383360"/>
                  <a:ext cx="304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 rot="5400000">
                  <a:off x="3175200" y="5070960"/>
                  <a:ext cx="304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3816000" y="1805040"/>
                  <a:ext cx="0" cy="4140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3664080" y="209088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3664080" y="195264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3130560" y="1816200"/>
                  <a:ext cx="685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3664080" y="222876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3664080" y="264168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3527280" y="2503440"/>
                  <a:ext cx="288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3664080" y="236520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3664080" y="277812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3527280" y="3192480"/>
                  <a:ext cx="288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>
                  <a:off x="3664080" y="305424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3664080" y="291636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>
                  <a:off x="3664080" y="332892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>
                  <a:off x="3664080" y="374184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3664080" y="360504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>
                  <a:off x="3664080" y="346716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3527280" y="3879720"/>
                  <a:ext cx="288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3664080" y="429264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3664080" y="415440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3664080" y="401796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3664080" y="443052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3664080" y="539424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3527280" y="5256360"/>
                  <a:ext cx="288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3664080" y="511812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>
                  <a:off x="3664080" y="553068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"/>
                <p:cNvSpPr/>
                <p:nvPr/>
              </p:nvSpPr>
              <p:spPr>
                <a:xfrm>
                  <a:off x="3664080" y="484344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3664080" y="470520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5" name=""/>
                <p:cNvSpPr/>
                <p:nvPr/>
              </p:nvSpPr>
              <p:spPr>
                <a:xfrm>
                  <a:off x="3527280" y="4568760"/>
                  <a:ext cx="288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>
                  <a:off x="3664080" y="498168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3664080" y="580716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3664080" y="566892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>
                  <a:off x="3130560" y="1816200"/>
                  <a:ext cx="0" cy="4140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40" name=""/>
              <p:cNvSpPr/>
              <p:nvPr/>
            </p:nvSpPr>
            <p:spPr>
              <a:xfrm rot="5400000">
                <a:off x="3179880" y="572976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 rot="5400000">
                <a:off x="3175200" y="644724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 flipH="1">
                <a:off x="3816000" y="5933880"/>
                <a:ext cx="4680" cy="138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3668760" y="621972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3668760" y="608184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3527640" y="5945040"/>
                <a:ext cx="293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3668760" y="635796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3668760" y="677052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3531960" y="6632640"/>
                <a:ext cx="288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3668760" y="649440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3668760" y="690732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3135240" y="732168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3668760" y="718344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3668760" y="704520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3135240" y="5945040"/>
                <a:ext cx="0" cy="1376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5" name=""/>
          <p:cNvSpPr/>
          <p:nvPr/>
        </p:nvSpPr>
        <p:spPr>
          <a:xfrm>
            <a:off x="390600" y="2185920"/>
            <a:ext cx="2495520" cy="3751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8801" y="2964"/>
                </a:moveTo>
                <a:lnTo>
                  <a:pt x="22260" y="548"/>
                </a:lnTo>
              </a:path>
              <a:path w="21600" h="21600">
                <a:moveTo>
                  <a:pt x="22260" y="0"/>
                </a:moveTo>
                <a:lnTo>
                  <a:pt x="22260" y="21600"/>
                </a:lnTo>
              </a:path>
            </a:pathLst>
          </a:custGeom>
          <a:solidFill>
            <a:srgbClr val="ffffff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垂直距離為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2000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米，現量度得圖上之距離為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米，故</a:t>
            </a:r>
            <a:r>
              <a:rPr b="1" lang="zh-TW" sz="2400" spc="-1" strike="noStrike">
                <a:solidFill>
                  <a:srgbClr val="006600"/>
                </a:solidFill>
                <a:latin typeface="Times New Roman"/>
              </a:rPr>
              <a:t>垂直比例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為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1600200" y="784080"/>
            <a:ext cx="64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已知一大鐵球之高度為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2000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米，而闊度為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2000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米，現繪畫該鐵球之剖面圖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762120" y="4280040"/>
            <a:ext cx="181908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00" spc="-1" strike="noStrike">
                <a:solidFill>
                  <a:srgbClr val="ff0000"/>
                </a:solidFill>
                <a:latin typeface="Times New Roman"/>
              </a:rPr>
              <a:t>_______________________________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TW" sz="2400" spc="-1" strike="noStrike">
                <a:solidFill>
                  <a:srgbClr val="ff0000"/>
                </a:solidFill>
                <a:latin typeface="Times New Roman"/>
              </a:rPr>
              <a:t>2000 X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Times New Roman"/>
              </a:rPr>
              <a:t>= 1 / 1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5197320" y="4413240"/>
            <a:ext cx="3718080" cy="1922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41" y="-13731"/>
                </a:moveTo>
                <a:lnTo>
                  <a:pt x="-443" y="1068"/>
                </a:lnTo>
              </a:path>
              <a:path w="21600" h="21600">
                <a:moveTo>
                  <a:pt x="-443" y="0"/>
                </a:moveTo>
                <a:lnTo>
                  <a:pt x="-443" y="21600"/>
                </a:lnTo>
              </a:path>
            </a:pathLst>
          </a:custGeom>
          <a:solidFill>
            <a:srgbClr val="ffffff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水平距離為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2000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米，現量度得圖上之距離為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厘米，故</a:t>
            </a:r>
            <a:r>
              <a:rPr b="1" lang="zh-TW" sz="2400" spc="-1" strike="noStrike">
                <a:solidFill>
                  <a:srgbClr val="006600"/>
                </a:solidFill>
                <a:latin typeface="Times New Roman"/>
              </a:rPr>
              <a:t>水平比例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為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5299200" y="5556240"/>
            <a:ext cx="3962160" cy="12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TW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00" spc="-1" strike="noStrike">
                <a:solidFill>
                  <a:srgbClr val="ff0000"/>
                </a:solidFill>
                <a:latin typeface="Times New Roman"/>
              </a:rPr>
              <a:t>_______________________________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TW" sz="2400" spc="-1" strike="noStrike">
                <a:solidFill>
                  <a:srgbClr val="ff0000"/>
                </a:solidFill>
                <a:latin typeface="Times New Roman"/>
              </a:rPr>
              <a:t>2000 X 100     = 1 / 1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0" name=""/>
          <p:cNvGrpSpPr/>
          <p:nvPr/>
        </p:nvGrpSpPr>
        <p:grpSpPr>
          <a:xfrm>
            <a:off x="4911840" y="3723840"/>
            <a:ext cx="5635440" cy="698040"/>
            <a:chOff x="4911840" y="3723840"/>
            <a:chExt cx="5635440" cy="698040"/>
          </a:xfrm>
        </p:grpSpPr>
        <p:sp>
          <p:nvSpPr>
            <p:cNvPr id="1061" name=""/>
            <p:cNvSpPr/>
            <p:nvPr/>
          </p:nvSpPr>
          <p:spPr>
            <a:xfrm>
              <a:off x="9721800" y="3952800"/>
              <a:ext cx="82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0000"/>
                  </a:solidFill>
                  <a:latin typeface="Times New Roman"/>
                </a:rPr>
                <a:t>厘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2" name=""/>
            <p:cNvGrpSpPr/>
            <p:nvPr/>
          </p:nvGrpSpPr>
          <p:grpSpPr>
            <a:xfrm>
              <a:off x="4911840" y="3723840"/>
              <a:ext cx="5516640" cy="698040"/>
              <a:chOff x="4911840" y="3723840"/>
              <a:chExt cx="5516640" cy="698040"/>
            </a:xfrm>
          </p:grpSpPr>
          <p:grpSp>
            <p:nvGrpSpPr>
              <p:cNvPr id="1063" name=""/>
              <p:cNvGrpSpPr/>
              <p:nvPr/>
            </p:nvGrpSpPr>
            <p:grpSpPr>
              <a:xfrm>
                <a:off x="4911840" y="3728880"/>
                <a:ext cx="4151160" cy="693000"/>
                <a:chOff x="4911840" y="3728880"/>
                <a:chExt cx="4151160" cy="693000"/>
              </a:xfrm>
            </p:grpSpPr>
            <p:sp>
              <p:nvSpPr>
                <p:cNvPr id="1064" name=""/>
                <p:cNvSpPr/>
                <p:nvPr/>
              </p:nvSpPr>
              <p:spPr>
                <a:xfrm>
                  <a:off x="5469120" y="4023000"/>
                  <a:ext cx="304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>
                  <a:off x="6157800" y="4023000"/>
                  <a:ext cx="304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>
                  <a:off x="6848640" y="4018320"/>
                  <a:ext cx="304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7537320" y="4018320"/>
                  <a:ext cx="304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>
                  <a:off x="8224920" y="4018320"/>
                  <a:ext cx="304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4911840" y="3729240"/>
                  <a:ext cx="4140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 flipV="1">
                  <a:off x="5197680" y="372924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 flipV="1">
                  <a:off x="5059440" y="372924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 flipV="1">
                  <a:off x="4923000" y="3728880"/>
                  <a:ext cx="0" cy="685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 flipV="1">
                  <a:off x="5335560" y="372924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 flipV="1">
                  <a:off x="5748480" y="372924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 flipV="1">
                  <a:off x="5610240" y="3728880"/>
                  <a:ext cx="0" cy="289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 flipV="1">
                  <a:off x="5472000" y="372924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7" name=""/>
                <p:cNvSpPr/>
                <p:nvPr/>
              </p:nvSpPr>
              <p:spPr>
                <a:xfrm flipV="1">
                  <a:off x="5884920" y="372924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8" name=""/>
                <p:cNvSpPr/>
                <p:nvPr/>
              </p:nvSpPr>
              <p:spPr>
                <a:xfrm flipV="1">
                  <a:off x="6299280" y="3728880"/>
                  <a:ext cx="0" cy="289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 flipV="1">
                  <a:off x="6161040" y="372924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 flipV="1">
                  <a:off x="6023160" y="372924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 flipV="1">
                  <a:off x="6435720" y="372924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 flipV="1">
                  <a:off x="6848640" y="372924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 flipV="1">
                  <a:off x="6711840" y="372924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 flipV="1">
                  <a:off x="6573960" y="372924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 flipV="1">
                  <a:off x="6986520" y="3728880"/>
                  <a:ext cx="0" cy="289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 flipV="1">
                  <a:off x="7399440" y="372924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 flipV="1">
                  <a:off x="7261200" y="372924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 flipV="1">
                  <a:off x="7124760" y="372924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9" name=""/>
                <p:cNvSpPr/>
                <p:nvPr/>
              </p:nvSpPr>
              <p:spPr>
                <a:xfrm flipV="1">
                  <a:off x="7537320" y="372924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 flipV="1">
                  <a:off x="8501040" y="372924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 flipV="1">
                  <a:off x="8363160" y="3728880"/>
                  <a:ext cx="0" cy="289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 flipV="1">
                  <a:off x="8224920" y="372924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 flipV="1">
                  <a:off x="8637480" y="372924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 flipV="1">
                  <a:off x="7950240" y="372924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5" name=""/>
                <p:cNvSpPr/>
                <p:nvPr/>
              </p:nvSpPr>
              <p:spPr>
                <a:xfrm flipV="1">
                  <a:off x="7812000" y="372924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 flipV="1">
                  <a:off x="7675560" y="3728880"/>
                  <a:ext cx="0" cy="289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 flipV="1">
                  <a:off x="8088480" y="372924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 flipV="1">
                  <a:off x="8913960" y="372924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 flipV="1">
                  <a:off x="8775720" y="372924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>
                  <a:off x="4923000" y="4415040"/>
                  <a:ext cx="4140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01" name=""/>
              <p:cNvSpPr/>
              <p:nvPr/>
            </p:nvSpPr>
            <p:spPr>
              <a:xfrm>
                <a:off x="8883720" y="401328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9601200" y="401796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9040680" y="3724200"/>
                <a:ext cx="1387800" cy="5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 flipV="1">
                <a:off x="9326520" y="372420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 flipV="1">
                <a:off x="9188640" y="372420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 flipV="1">
                <a:off x="9051840" y="3724200"/>
                <a:ext cx="0" cy="293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 flipV="1">
                <a:off x="9464760" y="372420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 flipV="1">
                <a:off x="9877320" y="372420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 flipV="1">
                <a:off x="9739440" y="3723840"/>
                <a:ext cx="0" cy="289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 flipV="1">
                <a:off x="9601200" y="372420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 flipV="1">
                <a:off x="10014120" y="372420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 flipV="1">
                <a:off x="10428480" y="372384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 flipV="1">
                <a:off x="10290240" y="372420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 flipV="1">
                <a:off x="10152000" y="372420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9051840" y="4410000"/>
                <a:ext cx="1376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16" name=""/>
          <p:cNvSpPr/>
          <p:nvPr/>
        </p:nvSpPr>
        <p:spPr>
          <a:xfrm>
            <a:off x="2581200" y="5519880"/>
            <a:ext cx="4805280" cy="1198800"/>
          </a:xfrm>
          <a:prstGeom prst="rect">
            <a:avLst/>
          </a:prstGeom>
          <a:solidFill>
            <a:srgbClr val="ffff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由於垂直比例與水平比例相等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故剖面圖</a:t>
            </a:r>
            <a:r>
              <a:rPr b="1" lang="zh-TW" sz="3600" spc="-1" strike="noStrike">
                <a:solidFill>
                  <a:srgbClr val="000099"/>
                </a:solidFill>
                <a:latin typeface="Times New Roman"/>
              </a:rPr>
              <a:t>沒有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被誇張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7" name=""/>
          <p:cNvGrpSpPr/>
          <p:nvPr/>
        </p:nvGrpSpPr>
        <p:grpSpPr>
          <a:xfrm>
            <a:off x="3807000" y="1606680"/>
            <a:ext cx="4284360" cy="2277360"/>
            <a:chOff x="3807000" y="1606680"/>
            <a:chExt cx="4284360" cy="2277360"/>
          </a:xfrm>
        </p:grpSpPr>
        <p:sp>
          <p:nvSpPr>
            <p:cNvPr id="1118" name=""/>
            <p:cNvSpPr/>
            <p:nvPr/>
          </p:nvSpPr>
          <p:spPr>
            <a:xfrm>
              <a:off x="4925880" y="1822320"/>
              <a:ext cx="1379520" cy="13716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9" name=""/>
            <p:cNvGrpSpPr/>
            <p:nvPr/>
          </p:nvGrpSpPr>
          <p:grpSpPr>
            <a:xfrm>
              <a:off x="4911840" y="1805040"/>
              <a:ext cx="2728800" cy="1663200"/>
              <a:chOff x="4911840" y="1805040"/>
              <a:chExt cx="2728800" cy="1663200"/>
            </a:xfrm>
          </p:grpSpPr>
          <p:grpSp>
            <p:nvGrpSpPr>
              <p:cNvPr id="1120" name=""/>
              <p:cNvGrpSpPr/>
              <p:nvPr/>
            </p:nvGrpSpPr>
            <p:grpSpPr>
              <a:xfrm>
                <a:off x="4914360" y="1805040"/>
                <a:ext cx="2725920" cy="1371240"/>
                <a:chOff x="4914360" y="1805040"/>
                <a:chExt cx="2725920" cy="1371240"/>
              </a:xfrm>
            </p:grpSpPr>
            <p:sp>
              <p:nvSpPr>
                <p:cNvPr id="1121" name=""/>
                <p:cNvSpPr/>
                <p:nvPr/>
              </p:nvSpPr>
              <p:spPr>
                <a:xfrm>
                  <a:off x="4914360" y="1805040"/>
                  <a:ext cx="2725920" cy="137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>
                  <a:off x="4923000" y="2490480"/>
                  <a:ext cx="2716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23" name=""/>
              <p:cNvSpPr/>
              <p:nvPr/>
            </p:nvSpPr>
            <p:spPr>
              <a:xfrm>
                <a:off x="6269040" y="3193920"/>
                <a:ext cx="0" cy="27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4911840" y="3193920"/>
                <a:ext cx="0" cy="27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7640640" y="3193920"/>
                <a:ext cx="0" cy="27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6" name=""/>
            <p:cNvSpPr/>
            <p:nvPr/>
          </p:nvSpPr>
          <p:spPr>
            <a:xfrm>
              <a:off x="5859360" y="3424320"/>
              <a:ext cx="96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</a:rPr>
                <a:t>厘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3807000" y="2293920"/>
              <a:ext cx="96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</a:rPr>
                <a:t>厘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 flipH="1">
              <a:off x="4637160" y="3176640"/>
              <a:ext cx="2728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H="1">
              <a:off x="4637160" y="2502000"/>
              <a:ext cx="2728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 flipH="1">
              <a:off x="4649400" y="1805040"/>
              <a:ext cx="273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807000" y="1606680"/>
              <a:ext cx="96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</a:rPr>
                <a:t>厘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7130880" y="3417840"/>
              <a:ext cx="96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</a:rPr>
                <a:t>厘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新界喇沙中學地理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"/>
          <p:cNvSpPr/>
          <p:nvPr/>
        </p:nvSpPr>
        <p:spPr>
          <a:xfrm>
            <a:off x="3429000" y="15228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3366"/>
                </a:solidFill>
                <a:latin typeface="Times New Roman"/>
              </a:rPr>
              <a:t>垂直誇張率</a:t>
            </a:r>
            <a:r>
              <a:rPr b="1" lang="zh-TW" sz="3200" spc="-1" strike="noStrike">
                <a:solidFill>
                  <a:srgbClr val="003366"/>
                </a:solidFill>
                <a:latin typeface="Times New Roman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4" name=""/>
          <p:cNvGrpSpPr/>
          <p:nvPr/>
        </p:nvGrpSpPr>
        <p:grpSpPr>
          <a:xfrm>
            <a:off x="3131640" y="909720"/>
            <a:ext cx="697320" cy="5635440"/>
            <a:chOff x="3131640" y="909720"/>
            <a:chExt cx="697320" cy="5635440"/>
          </a:xfrm>
        </p:grpSpPr>
        <p:sp>
          <p:nvSpPr>
            <p:cNvPr id="1135" name=""/>
            <p:cNvSpPr/>
            <p:nvPr/>
          </p:nvSpPr>
          <p:spPr>
            <a:xfrm rot="5400000">
              <a:off x="2957760" y="5902560"/>
              <a:ext cx="82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0000"/>
                  </a:solidFill>
                  <a:latin typeface="Times New Roman"/>
                </a:rPr>
                <a:t>厘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6" name=""/>
            <p:cNvGrpSpPr/>
            <p:nvPr/>
          </p:nvGrpSpPr>
          <p:grpSpPr>
            <a:xfrm>
              <a:off x="3131640" y="909720"/>
              <a:ext cx="697320" cy="5516640"/>
              <a:chOff x="3131640" y="909720"/>
              <a:chExt cx="697320" cy="5516640"/>
            </a:xfrm>
          </p:grpSpPr>
          <p:grpSp>
            <p:nvGrpSpPr>
              <p:cNvPr id="1137" name=""/>
              <p:cNvGrpSpPr/>
              <p:nvPr/>
            </p:nvGrpSpPr>
            <p:grpSpPr>
              <a:xfrm>
                <a:off x="3131640" y="909720"/>
                <a:ext cx="692640" cy="4151160"/>
                <a:chOff x="3131640" y="909720"/>
                <a:chExt cx="692640" cy="4151160"/>
              </a:xfrm>
            </p:grpSpPr>
            <p:sp>
              <p:nvSpPr>
                <p:cNvPr id="1138" name=""/>
                <p:cNvSpPr/>
                <p:nvPr/>
              </p:nvSpPr>
              <p:spPr>
                <a:xfrm rot="5400000">
                  <a:off x="3178800" y="1419840"/>
                  <a:ext cx="304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 rot="5400000">
                  <a:off x="3178440" y="2108520"/>
                  <a:ext cx="304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 rot="5400000">
                  <a:off x="3183480" y="2799360"/>
                  <a:ext cx="304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 rot="5400000">
                  <a:off x="3183120" y="3488040"/>
                  <a:ext cx="304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 rot="5400000">
                  <a:off x="3183120" y="4175640"/>
                  <a:ext cx="304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3" name=""/>
                <p:cNvSpPr/>
                <p:nvPr/>
              </p:nvSpPr>
              <p:spPr>
                <a:xfrm>
                  <a:off x="3823920" y="909720"/>
                  <a:ext cx="0" cy="4140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>
                  <a:off x="3672000" y="119556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3672000" y="105732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6" name=""/>
                <p:cNvSpPr/>
                <p:nvPr/>
              </p:nvSpPr>
              <p:spPr>
                <a:xfrm>
                  <a:off x="3138480" y="920880"/>
                  <a:ext cx="685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3672000" y="133344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3672000" y="174636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9" name=""/>
                <p:cNvSpPr/>
                <p:nvPr/>
              </p:nvSpPr>
              <p:spPr>
                <a:xfrm>
                  <a:off x="3535200" y="1608120"/>
                  <a:ext cx="288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>
                  <a:off x="3672000" y="146988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3672000" y="188280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2" name=""/>
                <p:cNvSpPr/>
                <p:nvPr/>
              </p:nvSpPr>
              <p:spPr>
                <a:xfrm>
                  <a:off x="3535200" y="2297160"/>
                  <a:ext cx="288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3672000" y="215892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3672000" y="202104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>
                  <a:off x="3672000" y="243360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3672000" y="284652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3672000" y="270972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3672000" y="257184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>
                  <a:off x="3535200" y="2984400"/>
                  <a:ext cx="288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3672000" y="339732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1" name=""/>
                <p:cNvSpPr/>
                <p:nvPr/>
              </p:nvSpPr>
              <p:spPr>
                <a:xfrm>
                  <a:off x="3672000" y="325908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>
                  <a:off x="3672000" y="312264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>
                  <a:off x="3672000" y="353520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3672000" y="449892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3535200" y="4361040"/>
                  <a:ext cx="288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>
                  <a:off x="3672000" y="422280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>
                  <a:off x="3672000" y="463536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3672000" y="394812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>
                  <a:off x="3672000" y="380988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>
                  <a:off x="3535200" y="3673440"/>
                  <a:ext cx="288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>
                  <a:off x="3672000" y="408636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3672000" y="491184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>
                  <a:off x="3672000" y="477360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>
                  <a:off x="3138480" y="920880"/>
                  <a:ext cx="0" cy="4140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5" name=""/>
              <p:cNvSpPr/>
              <p:nvPr/>
            </p:nvSpPr>
            <p:spPr>
              <a:xfrm rot="5400000">
                <a:off x="3187800" y="483444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 rot="5400000">
                <a:off x="3183120" y="555192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 flipH="1">
                <a:off x="3823920" y="5038560"/>
                <a:ext cx="4680" cy="138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3676680" y="532440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3676680" y="518652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3535560" y="5049720"/>
                <a:ext cx="293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3676680" y="546264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3676680" y="587520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3539880" y="5737320"/>
                <a:ext cx="288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3676680" y="559908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3676680" y="601200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3143160" y="642636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3676680" y="628812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3676680" y="614988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3143160" y="5049720"/>
                <a:ext cx="0" cy="1376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90" name=""/>
          <p:cNvSpPr/>
          <p:nvPr/>
        </p:nvSpPr>
        <p:spPr>
          <a:xfrm>
            <a:off x="390600" y="2185920"/>
            <a:ext cx="2495520" cy="3751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8801" y="2964"/>
                </a:moveTo>
                <a:lnTo>
                  <a:pt x="22260" y="548"/>
                </a:lnTo>
              </a:path>
              <a:path w="21600" h="21600">
                <a:moveTo>
                  <a:pt x="22260" y="0"/>
                </a:moveTo>
                <a:lnTo>
                  <a:pt x="22260" y="21600"/>
                </a:lnTo>
              </a:path>
            </a:pathLst>
          </a:custGeom>
          <a:solidFill>
            <a:srgbClr val="ffffff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垂直距離為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2000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米，現量度得圖上之距離為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米，故</a:t>
            </a:r>
            <a:r>
              <a:rPr b="1" lang="zh-TW" sz="2400" spc="-1" strike="noStrike">
                <a:solidFill>
                  <a:srgbClr val="006600"/>
                </a:solidFill>
                <a:latin typeface="Times New Roman"/>
              </a:rPr>
              <a:t>垂直比例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為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1" name=""/>
          <p:cNvGrpSpPr/>
          <p:nvPr/>
        </p:nvGrpSpPr>
        <p:grpSpPr>
          <a:xfrm>
            <a:off x="3816360" y="663480"/>
            <a:ext cx="4408560" cy="3617280"/>
            <a:chOff x="3816360" y="663480"/>
            <a:chExt cx="4408560" cy="3617280"/>
          </a:xfrm>
        </p:grpSpPr>
        <p:sp>
          <p:nvSpPr>
            <p:cNvPr id="1192" name=""/>
            <p:cNvSpPr/>
            <p:nvPr/>
          </p:nvSpPr>
          <p:spPr>
            <a:xfrm>
              <a:off x="5869080" y="3821040"/>
              <a:ext cx="968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</a:rPr>
                <a:t>厘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7256520" y="3821040"/>
              <a:ext cx="968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</a:rPr>
                <a:t>厘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4" name=""/>
            <p:cNvGrpSpPr/>
            <p:nvPr/>
          </p:nvGrpSpPr>
          <p:grpSpPr>
            <a:xfrm>
              <a:off x="3816360" y="663480"/>
              <a:ext cx="3848040" cy="3202200"/>
              <a:chOff x="3816360" y="663480"/>
              <a:chExt cx="3848040" cy="3202200"/>
            </a:xfrm>
          </p:grpSpPr>
          <p:sp>
            <p:nvSpPr>
              <p:cNvPr id="1195" name=""/>
              <p:cNvSpPr/>
              <p:nvPr/>
            </p:nvSpPr>
            <p:spPr>
              <a:xfrm>
                <a:off x="4925880" y="922320"/>
                <a:ext cx="1379520" cy="26686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bf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96" name=""/>
              <p:cNvGrpSpPr/>
              <p:nvPr/>
            </p:nvGrpSpPr>
            <p:grpSpPr>
              <a:xfrm>
                <a:off x="4915080" y="922320"/>
                <a:ext cx="2749320" cy="2687400"/>
                <a:chOff x="4915080" y="922320"/>
                <a:chExt cx="2749320" cy="2687400"/>
              </a:xfrm>
            </p:grpSpPr>
            <p:sp>
              <p:nvSpPr>
                <p:cNvPr id="1197" name=""/>
                <p:cNvSpPr/>
                <p:nvPr/>
              </p:nvSpPr>
              <p:spPr>
                <a:xfrm>
                  <a:off x="4915080" y="922320"/>
                  <a:ext cx="2749320" cy="2687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4923720" y="2265840"/>
                  <a:ext cx="2740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99" name=""/>
              <p:cNvSpPr/>
              <p:nvPr/>
            </p:nvSpPr>
            <p:spPr>
              <a:xfrm>
                <a:off x="6280200" y="3643200"/>
                <a:ext cx="0" cy="222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4911840" y="3643200"/>
                <a:ext cx="0" cy="222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7664400" y="3643200"/>
                <a:ext cx="0" cy="222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3828960" y="2076480"/>
                <a:ext cx="968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zh-TW" sz="2400" spc="-1" strike="noStrike">
                    <a:solidFill>
                      <a:srgbClr val="000000"/>
                    </a:solidFill>
                    <a:latin typeface="Times New Roman"/>
                  </a:rPr>
                  <a:t>厘米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 flipH="1">
                <a:off x="4649400" y="3608280"/>
                <a:ext cx="2761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 flipH="1">
                <a:off x="4649400" y="2287440"/>
                <a:ext cx="2761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 flipH="1">
                <a:off x="4662360" y="922320"/>
                <a:ext cx="2764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3816360" y="663480"/>
                <a:ext cx="968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1" lang="zh-TW" sz="2400" spc="-1" strike="noStrike">
                    <a:solidFill>
                      <a:srgbClr val="000000"/>
                    </a:solidFill>
                    <a:latin typeface="Times New Roman"/>
                  </a:rPr>
                  <a:t>厘米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07" name=""/>
          <p:cNvSpPr/>
          <p:nvPr/>
        </p:nvSpPr>
        <p:spPr>
          <a:xfrm>
            <a:off x="762120" y="4280040"/>
            <a:ext cx="181908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00" spc="-1" strike="noStrike">
                <a:solidFill>
                  <a:srgbClr val="ff0000"/>
                </a:solidFill>
                <a:latin typeface="Times New Roman"/>
              </a:rPr>
              <a:t>_______________________________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TW" sz="2400" spc="-1" strike="noStrike">
                <a:solidFill>
                  <a:srgbClr val="ff0000"/>
                </a:solidFill>
                <a:latin typeface="Times New Roman"/>
              </a:rPr>
              <a:t>2000 X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Times New Roman"/>
              </a:rPr>
              <a:t>= 1 / 5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5197320" y="4413240"/>
            <a:ext cx="3718080" cy="1922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41" y="-13731"/>
                </a:moveTo>
                <a:lnTo>
                  <a:pt x="-443" y="1068"/>
                </a:lnTo>
              </a:path>
              <a:path w="21600" h="21600">
                <a:moveTo>
                  <a:pt x="-443" y="0"/>
                </a:moveTo>
                <a:lnTo>
                  <a:pt x="-443" y="21600"/>
                </a:lnTo>
              </a:path>
            </a:pathLst>
          </a:custGeom>
          <a:solidFill>
            <a:srgbClr val="ffffff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水平距離為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2000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米，現量度得圖上之距離為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厘米，故</a:t>
            </a:r>
            <a:r>
              <a:rPr b="1" lang="zh-TW" sz="2400" spc="-1" strike="noStrike">
                <a:solidFill>
                  <a:srgbClr val="006600"/>
                </a:solidFill>
                <a:latin typeface="Times New Roman"/>
              </a:rPr>
              <a:t>水平比例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為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5299200" y="5556240"/>
            <a:ext cx="3962160" cy="12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TW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00" spc="-1" strike="noStrike">
                <a:solidFill>
                  <a:srgbClr val="ff0000"/>
                </a:solidFill>
                <a:latin typeface="Times New Roman"/>
              </a:rPr>
              <a:t>_______________________________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TW" sz="2400" spc="-1" strike="noStrike">
                <a:solidFill>
                  <a:srgbClr val="ff0000"/>
                </a:solidFill>
                <a:latin typeface="Times New Roman"/>
              </a:rPr>
              <a:t>2000 X 100     = 1 / 1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0" name=""/>
          <p:cNvGrpSpPr/>
          <p:nvPr/>
        </p:nvGrpSpPr>
        <p:grpSpPr>
          <a:xfrm>
            <a:off x="4884840" y="3727080"/>
            <a:ext cx="5635440" cy="697320"/>
            <a:chOff x="4884840" y="3727080"/>
            <a:chExt cx="5635440" cy="697320"/>
          </a:xfrm>
        </p:grpSpPr>
        <p:sp>
          <p:nvSpPr>
            <p:cNvPr id="1211" name=""/>
            <p:cNvSpPr/>
            <p:nvPr/>
          </p:nvSpPr>
          <p:spPr>
            <a:xfrm>
              <a:off x="9694800" y="3955680"/>
              <a:ext cx="82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0000"/>
                  </a:solidFill>
                  <a:latin typeface="Times New Roman"/>
                </a:rPr>
                <a:t>厘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2" name=""/>
            <p:cNvGrpSpPr/>
            <p:nvPr/>
          </p:nvGrpSpPr>
          <p:grpSpPr>
            <a:xfrm>
              <a:off x="4884840" y="3727080"/>
              <a:ext cx="5516640" cy="697320"/>
              <a:chOff x="4884840" y="3727080"/>
              <a:chExt cx="5516640" cy="697320"/>
            </a:xfrm>
          </p:grpSpPr>
          <p:grpSp>
            <p:nvGrpSpPr>
              <p:cNvPr id="1213" name=""/>
              <p:cNvGrpSpPr/>
              <p:nvPr/>
            </p:nvGrpSpPr>
            <p:grpSpPr>
              <a:xfrm>
                <a:off x="4884840" y="3731760"/>
                <a:ext cx="4151160" cy="692640"/>
                <a:chOff x="4884840" y="3731760"/>
                <a:chExt cx="4151160" cy="692640"/>
              </a:xfrm>
            </p:grpSpPr>
            <p:sp>
              <p:nvSpPr>
                <p:cNvPr id="1214" name=""/>
                <p:cNvSpPr/>
                <p:nvPr/>
              </p:nvSpPr>
              <p:spPr>
                <a:xfrm>
                  <a:off x="5442120" y="4025520"/>
                  <a:ext cx="304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5" name=""/>
                <p:cNvSpPr/>
                <p:nvPr/>
              </p:nvSpPr>
              <p:spPr>
                <a:xfrm>
                  <a:off x="6130800" y="4025520"/>
                  <a:ext cx="304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6" name=""/>
                <p:cNvSpPr/>
                <p:nvPr/>
              </p:nvSpPr>
              <p:spPr>
                <a:xfrm>
                  <a:off x="6821640" y="4020840"/>
                  <a:ext cx="304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7" name=""/>
                <p:cNvSpPr/>
                <p:nvPr/>
              </p:nvSpPr>
              <p:spPr>
                <a:xfrm>
                  <a:off x="7510320" y="4020840"/>
                  <a:ext cx="304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8" name=""/>
                <p:cNvSpPr/>
                <p:nvPr/>
              </p:nvSpPr>
              <p:spPr>
                <a:xfrm>
                  <a:off x="8197920" y="4020840"/>
                  <a:ext cx="304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9" name=""/>
                <p:cNvSpPr/>
                <p:nvPr/>
              </p:nvSpPr>
              <p:spPr>
                <a:xfrm>
                  <a:off x="4884840" y="3732120"/>
                  <a:ext cx="4140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 flipV="1">
                  <a:off x="5170680" y="373176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1" name=""/>
                <p:cNvSpPr/>
                <p:nvPr/>
              </p:nvSpPr>
              <p:spPr>
                <a:xfrm flipV="1">
                  <a:off x="5032440" y="373176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2" name=""/>
                <p:cNvSpPr/>
                <p:nvPr/>
              </p:nvSpPr>
              <p:spPr>
                <a:xfrm flipV="1">
                  <a:off x="4896000" y="3732120"/>
                  <a:ext cx="0" cy="685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3" name=""/>
                <p:cNvSpPr/>
                <p:nvPr/>
              </p:nvSpPr>
              <p:spPr>
                <a:xfrm flipV="1">
                  <a:off x="5308560" y="373176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 flipV="1">
                  <a:off x="5721480" y="373176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 flipV="1">
                  <a:off x="5583240" y="3732120"/>
                  <a:ext cx="0" cy="288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6" name=""/>
                <p:cNvSpPr/>
                <p:nvPr/>
              </p:nvSpPr>
              <p:spPr>
                <a:xfrm flipV="1">
                  <a:off x="5445000" y="373176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7" name=""/>
                <p:cNvSpPr/>
                <p:nvPr/>
              </p:nvSpPr>
              <p:spPr>
                <a:xfrm flipV="1">
                  <a:off x="5857920" y="373176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8" name=""/>
                <p:cNvSpPr/>
                <p:nvPr/>
              </p:nvSpPr>
              <p:spPr>
                <a:xfrm flipV="1">
                  <a:off x="6272280" y="3732120"/>
                  <a:ext cx="0" cy="288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 flipV="1">
                  <a:off x="6134040" y="373176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 flipV="1">
                  <a:off x="5996160" y="373176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1" name=""/>
                <p:cNvSpPr/>
                <p:nvPr/>
              </p:nvSpPr>
              <p:spPr>
                <a:xfrm flipV="1">
                  <a:off x="6408720" y="373176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 flipV="1">
                  <a:off x="6821640" y="373176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 flipV="1">
                  <a:off x="6684840" y="373176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 flipV="1">
                  <a:off x="6546960" y="373176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5" name=""/>
                <p:cNvSpPr/>
                <p:nvPr/>
              </p:nvSpPr>
              <p:spPr>
                <a:xfrm flipV="1">
                  <a:off x="6959520" y="3732120"/>
                  <a:ext cx="0" cy="288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6" name=""/>
                <p:cNvSpPr/>
                <p:nvPr/>
              </p:nvSpPr>
              <p:spPr>
                <a:xfrm flipV="1">
                  <a:off x="7372440" y="373176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 flipV="1">
                  <a:off x="7234200" y="373176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 flipV="1">
                  <a:off x="7097760" y="373176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 flipV="1">
                  <a:off x="7510320" y="373176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0" name=""/>
                <p:cNvSpPr/>
                <p:nvPr/>
              </p:nvSpPr>
              <p:spPr>
                <a:xfrm flipV="1">
                  <a:off x="8474040" y="373176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1" name=""/>
                <p:cNvSpPr/>
                <p:nvPr/>
              </p:nvSpPr>
              <p:spPr>
                <a:xfrm flipV="1">
                  <a:off x="8336160" y="3732120"/>
                  <a:ext cx="0" cy="288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"/>
                <p:cNvSpPr/>
                <p:nvPr/>
              </p:nvSpPr>
              <p:spPr>
                <a:xfrm flipV="1">
                  <a:off x="8197920" y="373176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3" name=""/>
                <p:cNvSpPr/>
                <p:nvPr/>
              </p:nvSpPr>
              <p:spPr>
                <a:xfrm flipV="1">
                  <a:off x="8610480" y="373176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4" name=""/>
                <p:cNvSpPr/>
                <p:nvPr/>
              </p:nvSpPr>
              <p:spPr>
                <a:xfrm flipV="1">
                  <a:off x="7923240" y="373176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5" name=""/>
                <p:cNvSpPr/>
                <p:nvPr/>
              </p:nvSpPr>
              <p:spPr>
                <a:xfrm flipV="1">
                  <a:off x="7785000" y="373176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6" name=""/>
                <p:cNvSpPr/>
                <p:nvPr/>
              </p:nvSpPr>
              <p:spPr>
                <a:xfrm flipV="1">
                  <a:off x="7648560" y="3732120"/>
                  <a:ext cx="0" cy="288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7" name=""/>
                <p:cNvSpPr/>
                <p:nvPr/>
              </p:nvSpPr>
              <p:spPr>
                <a:xfrm flipV="1">
                  <a:off x="8061480" y="373176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8" name=""/>
                <p:cNvSpPr/>
                <p:nvPr/>
              </p:nvSpPr>
              <p:spPr>
                <a:xfrm flipV="1">
                  <a:off x="8886960" y="373176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 flipV="1">
                  <a:off x="8748720" y="373176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>
                  <a:off x="4896000" y="4417560"/>
                  <a:ext cx="4140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1" name=""/>
              <p:cNvSpPr/>
              <p:nvPr/>
            </p:nvSpPr>
            <p:spPr>
              <a:xfrm>
                <a:off x="8856720" y="401616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9574200" y="402084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9013680" y="3727440"/>
                <a:ext cx="138780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 flipV="1">
                <a:off x="9299520" y="372708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 flipV="1">
                <a:off x="9161640" y="372708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 flipV="1">
                <a:off x="9024840" y="3727080"/>
                <a:ext cx="0" cy="293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 flipV="1">
                <a:off x="9437760" y="372708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 flipV="1">
                <a:off x="9850320" y="372708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 flipV="1">
                <a:off x="9712440" y="3727440"/>
                <a:ext cx="0" cy="288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 flipV="1">
                <a:off x="9574200" y="372708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 flipV="1">
                <a:off x="9987120" y="372708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 flipV="1">
                <a:off x="10401480" y="372744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 flipV="1">
                <a:off x="10263240" y="372708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 flipV="1">
                <a:off x="10125000" y="372708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9024840" y="4412880"/>
                <a:ext cx="1376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66" name=""/>
          <p:cNvSpPr/>
          <p:nvPr/>
        </p:nvSpPr>
        <p:spPr>
          <a:xfrm>
            <a:off x="2581200" y="5519880"/>
            <a:ext cx="4805280" cy="1198800"/>
          </a:xfrm>
          <a:prstGeom prst="rect">
            <a:avLst/>
          </a:prstGeom>
          <a:solidFill>
            <a:srgbClr val="ffff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由於垂直比例與水平比例不相等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故剖面圖</a:t>
            </a:r>
            <a:r>
              <a:rPr b="1" lang="zh-TW" sz="3600" spc="-1" strike="noStrike">
                <a:solidFill>
                  <a:srgbClr val="000099"/>
                </a:solidFill>
                <a:latin typeface="Times New Roman"/>
              </a:rPr>
              <a:t>有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被誇張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新界喇沙中學地理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"/>
          <p:cNvSpPr/>
          <p:nvPr/>
        </p:nvSpPr>
        <p:spPr>
          <a:xfrm>
            <a:off x="3276720" y="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3366"/>
                </a:solidFill>
                <a:latin typeface="Times New Roman"/>
              </a:rPr>
              <a:t>垂直誇張率</a:t>
            </a:r>
            <a:r>
              <a:rPr b="1" lang="zh-TW" sz="3200" spc="-1" strike="noStrike">
                <a:solidFill>
                  <a:srgbClr val="003366"/>
                </a:solidFill>
                <a:latin typeface="Times New Roman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5332320" y="80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誇張率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914400" y="4748040"/>
            <a:ext cx="39625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Times New Roman"/>
              </a:rPr>
              <a:t>垂直比例 </a:t>
            </a:r>
            <a:r>
              <a:rPr b="1" lang="zh-TW" sz="2400" spc="-1" strike="noStrike">
                <a:solidFill>
                  <a:srgbClr val="ff0000"/>
                </a:solidFill>
                <a:latin typeface="Times New Roman"/>
              </a:rPr>
              <a:t>/ </a:t>
            </a:r>
            <a:r>
              <a:rPr b="1" lang="zh-TW" sz="2400" spc="-1" strike="noStrike">
                <a:solidFill>
                  <a:srgbClr val="ff0000"/>
                </a:solidFill>
                <a:latin typeface="Times New Roman"/>
              </a:rPr>
              <a:t>水平比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= 1 / 200000 </a:t>
            </a:r>
            <a:r>
              <a:rPr b="1" lang="zh-TW" sz="24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除 </a:t>
            </a:r>
            <a:r>
              <a:rPr b="1" lang="zh-TW" sz="24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1 / 1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= 100000 / 2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=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0" name=""/>
          <p:cNvGrpSpPr/>
          <p:nvPr/>
        </p:nvGrpSpPr>
        <p:grpSpPr>
          <a:xfrm>
            <a:off x="8078400" y="4081320"/>
            <a:ext cx="698040" cy="5635440"/>
            <a:chOff x="8078400" y="4081320"/>
            <a:chExt cx="698040" cy="5635440"/>
          </a:xfrm>
        </p:grpSpPr>
        <p:sp>
          <p:nvSpPr>
            <p:cNvPr id="1271" name=""/>
            <p:cNvSpPr/>
            <p:nvPr/>
          </p:nvSpPr>
          <p:spPr>
            <a:xfrm rot="16200000">
              <a:off x="8124480" y="4264200"/>
              <a:ext cx="82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0000"/>
                  </a:solidFill>
                  <a:latin typeface="Times New Roman"/>
                </a:rPr>
                <a:t>厘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2" name=""/>
            <p:cNvGrpSpPr/>
            <p:nvPr/>
          </p:nvGrpSpPr>
          <p:grpSpPr>
            <a:xfrm>
              <a:off x="8078400" y="4200120"/>
              <a:ext cx="698040" cy="5516640"/>
              <a:chOff x="8078400" y="4200120"/>
              <a:chExt cx="698040" cy="5516640"/>
            </a:xfrm>
          </p:grpSpPr>
          <p:grpSp>
            <p:nvGrpSpPr>
              <p:cNvPr id="1273" name=""/>
              <p:cNvGrpSpPr/>
              <p:nvPr/>
            </p:nvGrpSpPr>
            <p:grpSpPr>
              <a:xfrm>
                <a:off x="8083440" y="5565600"/>
                <a:ext cx="693000" cy="4151160"/>
                <a:chOff x="8083440" y="5565600"/>
                <a:chExt cx="693000" cy="4151160"/>
              </a:xfrm>
            </p:grpSpPr>
            <p:sp>
              <p:nvSpPr>
                <p:cNvPr id="1274" name=""/>
                <p:cNvSpPr/>
                <p:nvPr/>
              </p:nvSpPr>
              <p:spPr>
                <a:xfrm rot="16200000">
                  <a:off x="8424720" y="8807760"/>
                  <a:ext cx="304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 rot="16200000">
                  <a:off x="8424360" y="8118720"/>
                  <a:ext cx="304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 rot="16200000">
                  <a:off x="8420040" y="7428240"/>
                  <a:ext cx="304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 rot="16200000">
                  <a:off x="8419680" y="6739200"/>
                  <a:ext cx="304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 rot="16200000">
                  <a:off x="8419680" y="6051600"/>
                  <a:ext cx="304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 flipV="1">
                  <a:off x="8083800" y="5576760"/>
                  <a:ext cx="0" cy="4140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 flipH="1">
                  <a:off x="8083800" y="9430920"/>
                  <a:ext cx="152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1" name=""/>
                <p:cNvSpPr/>
                <p:nvPr/>
              </p:nvSpPr>
              <p:spPr>
                <a:xfrm flipH="1">
                  <a:off x="8083800" y="9569160"/>
                  <a:ext cx="152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"/>
                <p:cNvSpPr/>
                <p:nvPr/>
              </p:nvSpPr>
              <p:spPr>
                <a:xfrm flipH="1">
                  <a:off x="8083440" y="9705600"/>
                  <a:ext cx="685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 flipH="1">
                  <a:off x="8083800" y="9293040"/>
                  <a:ext cx="152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 flipH="1">
                  <a:off x="8083800" y="8880120"/>
                  <a:ext cx="152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 flipH="1">
                  <a:off x="8083440" y="9018360"/>
                  <a:ext cx="289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 flipH="1">
                  <a:off x="8083800" y="9156600"/>
                  <a:ext cx="152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 flipH="1">
                  <a:off x="8083800" y="8743680"/>
                  <a:ext cx="152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8" name=""/>
                <p:cNvSpPr/>
                <p:nvPr/>
              </p:nvSpPr>
              <p:spPr>
                <a:xfrm flipH="1">
                  <a:off x="8083440" y="8329320"/>
                  <a:ext cx="289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 flipH="1">
                  <a:off x="8083800" y="8467560"/>
                  <a:ext cx="152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 flipH="1">
                  <a:off x="8083800" y="8605440"/>
                  <a:ext cx="152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 flipH="1">
                  <a:off x="8083800" y="8192880"/>
                  <a:ext cx="152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 flipH="1">
                  <a:off x="8083800" y="7779960"/>
                  <a:ext cx="152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 flipH="1">
                  <a:off x="8083800" y="7916760"/>
                  <a:ext cx="152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 flipH="1">
                  <a:off x="8083800" y="8054640"/>
                  <a:ext cx="152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5" name=""/>
                <p:cNvSpPr/>
                <p:nvPr/>
              </p:nvSpPr>
              <p:spPr>
                <a:xfrm flipH="1">
                  <a:off x="8083440" y="7642080"/>
                  <a:ext cx="289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"/>
                <p:cNvSpPr/>
                <p:nvPr/>
              </p:nvSpPr>
              <p:spPr>
                <a:xfrm flipH="1">
                  <a:off x="8083800" y="7229160"/>
                  <a:ext cx="152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 flipH="1">
                  <a:off x="8083800" y="7367400"/>
                  <a:ext cx="152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 flipH="1">
                  <a:off x="8083800" y="7503840"/>
                  <a:ext cx="152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 flipH="1">
                  <a:off x="8083800" y="7091280"/>
                  <a:ext cx="152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0" name=""/>
                <p:cNvSpPr/>
                <p:nvPr/>
              </p:nvSpPr>
              <p:spPr>
                <a:xfrm flipH="1">
                  <a:off x="8083800" y="6127560"/>
                  <a:ext cx="152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 flipH="1">
                  <a:off x="8083440" y="6265440"/>
                  <a:ext cx="289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2" name=""/>
                <p:cNvSpPr/>
                <p:nvPr/>
              </p:nvSpPr>
              <p:spPr>
                <a:xfrm flipH="1">
                  <a:off x="8083800" y="6403680"/>
                  <a:ext cx="152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3" name=""/>
                <p:cNvSpPr/>
                <p:nvPr/>
              </p:nvSpPr>
              <p:spPr>
                <a:xfrm flipH="1">
                  <a:off x="8083800" y="5991120"/>
                  <a:ext cx="152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4" name=""/>
                <p:cNvSpPr/>
                <p:nvPr/>
              </p:nvSpPr>
              <p:spPr>
                <a:xfrm flipH="1">
                  <a:off x="8083800" y="6678360"/>
                  <a:ext cx="152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5" name=""/>
                <p:cNvSpPr/>
                <p:nvPr/>
              </p:nvSpPr>
              <p:spPr>
                <a:xfrm flipH="1">
                  <a:off x="8083800" y="6816600"/>
                  <a:ext cx="152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6" name=""/>
                <p:cNvSpPr/>
                <p:nvPr/>
              </p:nvSpPr>
              <p:spPr>
                <a:xfrm flipH="1">
                  <a:off x="8083440" y="6953040"/>
                  <a:ext cx="289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"/>
                <p:cNvSpPr/>
                <p:nvPr/>
              </p:nvSpPr>
              <p:spPr>
                <a:xfrm flipH="1">
                  <a:off x="8083800" y="6540120"/>
                  <a:ext cx="152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8" name=""/>
                <p:cNvSpPr/>
                <p:nvPr/>
              </p:nvSpPr>
              <p:spPr>
                <a:xfrm flipH="1">
                  <a:off x="8083800" y="5714640"/>
                  <a:ext cx="152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9" name=""/>
                <p:cNvSpPr/>
                <p:nvPr/>
              </p:nvSpPr>
              <p:spPr>
                <a:xfrm flipH="1">
                  <a:off x="8083800" y="5852880"/>
                  <a:ext cx="152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 flipV="1">
                  <a:off x="8769600" y="5565600"/>
                  <a:ext cx="0" cy="4140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11" name=""/>
              <p:cNvSpPr/>
              <p:nvPr/>
            </p:nvSpPr>
            <p:spPr>
              <a:xfrm rot="16200000">
                <a:off x="8414640" y="539280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 rot="16200000">
                <a:off x="8419320" y="467532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 flipV="1">
                <a:off x="8078760" y="4200120"/>
                <a:ext cx="5040" cy="138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 flipH="1">
                <a:off x="8078760" y="530208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 flipH="1">
                <a:off x="8078760" y="543996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 flipH="1">
                <a:off x="8078760" y="5576760"/>
                <a:ext cx="29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 flipH="1">
                <a:off x="8078760" y="516384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 flipH="1">
                <a:off x="8078760" y="475128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 flipH="1">
                <a:off x="8078400" y="4889160"/>
                <a:ext cx="289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 flipH="1">
                <a:off x="8078760" y="502740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 flipH="1">
                <a:off x="8078760" y="461448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 flipH="1">
                <a:off x="8078400" y="420012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 flipH="1">
                <a:off x="8078760" y="433836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 flipH="1">
                <a:off x="8078760" y="447660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 flipV="1">
                <a:off x="8764560" y="4200120"/>
                <a:ext cx="0" cy="1376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26" name=""/>
          <p:cNvGrpSpPr/>
          <p:nvPr/>
        </p:nvGrpSpPr>
        <p:grpSpPr>
          <a:xfrm>
            <a:off x="4965840" y="4724280"/>
            <a:ext cx="4049640" cy="1499760"/>
            <a:chOff x="4965840" y="4724280"/>
            <a:chExt cx="4049640" cy="1499760"/>
          </a:xfrm>
        </p:grpSpPr>
        <p:sp>
          <p:nvSpPr>
            <p:cNvPr id="1327" name=""/>
            <p:cNvSpPr/>
            <p:nvPr/>
          </p:nvSpPr>
          <p:spPr>
            <a:xfrm>
              <a:off x="6289560" y="4922640"/>
              <a:ext cx="1379520" cy="6663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8" name=""/>
            <p:cNvGrpSpPr/>
            <p:nvPr/>
          </p:nvGrpSpPr>
          <p:grpSpPr>
            <a:xfrm>
              <a:off x="6265800" y="4901040"/>
              <a:ext cx="2749680" cy="687960"/>
              <a:chOff x="6265800" y="4901040"/>
              <a:chExt cx="2749680" cy="687960"/>
            </a:xfrm>
          </p:grpSpPr>
          <p:sp>
            <p:nvSpPr>
              <p:cNvPr id="1329" name=""/>
              <p:cNvSpPr/>
              <p:nvPr/>
            </p:nvSpPr>
            <p:spPr>
              <a:xfrm>
                <a:off x="6265800" y="4901040"/>
                <a:ext cx="2749680" cy="687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6274440" y="5244840"/>
                <a:ext cx="2740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1" name=""/>
            <p:cNvSpPr/>
            <p:nvPr/>
          </p:nvSpPr>
          <p:spPr>
            <a:xfrm>
              <a:off x="7631280" y="5589360"/>
              <a:ext cx="0" cy="11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6262560" y="5589360"/>
              <a:ext cx="0" cy="11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9015480" y="5589360"/>
              <a:ext cx="0" cy="11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4965840" y="4994640"/>
              <a:ext cx="132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</a:rPr>
                <a:t>0.5</a:t>
              </a: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</a:rPr>
                <a:t>厘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 flipH="1">
              <a:off x="5986080" y="5589360"/>
              <a:ext cx="27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 flipH="1">
              <a:off x="6000480" y="5245200"/>
              <a:ext cx="27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 flipH="1">
              <a:off x="6013080" y="4901040"/>
              <a:ext cx="27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5181480" y="4724280"/>
              <a:ext cx="968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</a:rPr>
                <a:t>厘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7108920" y="5764320"/>
              <a:ext cx="968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</a:rPr>
                <a:t>厘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0" name=""/>
          <p:cNvSpPr/>
          <p:nvPr/>
        </p:nvSpPr>
        <p:spPr>
          <a:xfrm>
            <a:off x="914400" y="42624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誇張率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5332320" y="1373040"/>
            <a:ext cx="39625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Times New Roman"/>
              </a:rPr>
              <a:t>垂直比例 </a:t>
            </a:r>
            <a:r>
              <a:rPr b="1" lang="zh-TW" sz="2400" spc="-1" strike="noStrike">
                <a:solidFill>
                  <a:srgbClr val="ff0000"/>
                </a:solidFill>
                <a:latin typeface="Times New Roman"/>
              </a:rPr>
              <a:t>/ </a:t>
            </a:r>
            <a:r>
              <a:rPr b="1" lang="zh-TW" sz="2400" spc="-1" strike="noStrike">
                <a:solidFill>
                  <a:srgbClr val="ff0000"/>
                </a:solidFill>
                <a:latin typeface="Times New Roman"/>
              </a:rPr>
              <a:t>水平比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= 1 / 50000 </a:t>
            </a:r>
            <a:r>
              <a:rPr b="1" lang="zh-TW" sz="24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除 </a:t>
            </a:r>
            <a:r>
              <a:rPr b="1" lang="zh-TW" sz="24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1 / 1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= 100000 / 5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304920" y="3643200"/>
            <a:ext cx="8843760" cy="107640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3" name=""/>
          <p:cNvGrpSpPr/>
          <p:nvPr/>
        </p:nvGrpSpPr>
        <p:grpSpPr>
          <a:xfrm>
            <a:off x="1090440" y="546120"/>
            <a:ext cx="4739040" cy="3536280"/>
            <a:chOff x="1090440" y="546120"/>
            <a:chExt cx="4739040" cy="3536280"/>
          </a:xfrm>
        </p:grpSpPr>
        <p:grpSp>
          <p:nvGrpSpPr>
            <p:cNvPr id="1344" name=""/>
            <p:cNvGrpSpPr/>
            <p:nvPr/>
          </p:nvGrpSpPr>
          <p:grpSpPr>
            <a:xfrm>
              <a:off x="1090440" y="546120"/>
              <a:ext cx="3848040" cy="3201480"/>
              <a:chOff x="1090440" y="546120"/>
              <a:chExt cx="3848040" cy="3201480"/>
            </a:xfrm>
          </p:grpSpPr>
          <p:sp>
            <p:nvSpPr>
              <p:cNvPr id="1345" name=""/>
              <p:cNvSpPr/>
              <p:nvPr/>
            </p:nvSpPr>
            <p:spPr>
              <a:xfrm>
                <a:off x="2199960" y="804600"/>
                <a:ext cx="1379520" cy="26683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bf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46" name=""/>
              <p:cNvGrpSpPr/>
              <p:nvPr/>
            </p:nvGrpSpPr>
            <p:grpSpPr>
              <a:xfrm>
                <a:off x="2189160" y="804600"/>
                <a:ext cx="2749320" cy="2687040"/>
                <a:chOff x="2189160" y="804600"/>
                <a:chExt cx="2749320" cy="2687040"/>
              </a:xfrm>
            </p:grpSpPr>
            <p:sp>
              <p:nvSpPr>
                <p:cNvPr id="1347" name=""/>
                <p:cNvSpPr/>
                <p:nvPr/>
              </p:nvSpPr>
              <p:spPr>
                <a:xfrm>
                  <a:off x="2189160" y="804600"/>
                  <a:ext cx="2749320" cy="26870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8" name=""/>
                <p:cNvSpPr/>
                <p:nvPr/>
              </p:nvSpPr>
              <p:spPr>
                <a:xfrm>
                  <a:off x="2197800" y="2148120"/>
                  <a:ext cx="2740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49" name=""/>
              <p:cNvSpPr/>
              <p:nvPr/>
            </p:nvSpPr>
            <p:spPr>
              <a:xfrm>
                <a:off x="3554280" y="3525480"/>
                <a:ext cx="0" cy="22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2185920" y="3525480"/>
                <a:ext cx="0" cy="22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4938480" y="3525480"/>
                <a:ext cx="0" cy="22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1103040" y="1958760"/>
                <a:ext cx="968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zh-TW" sz="2400" spc="-1" strike="noStrike">
                    <a:solidFill>
                      <a:srgbClr val="000000"/>
                    </a:solidFill>
                    <a:latin typeface="Times New Roman"/>
                  </a:rPr>
                  <a:t>厘米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 flipH="1">
                <a:off x="1923480" y="3490560"/>
                <a:ext cx="2761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 flipH="1">
                <a:off x="1923480" y="2169720"/>
                <a:ext cx="2761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 flipH="1">
                <a:off x="1936440" y="804600"/>
                <a:ext cx="27648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1090440" y="546120"/>
                <a:ext cx="968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1" lang="zh-TW" sz="2400" spc="-1" strike="noStrike">
                    <a:solidFill>
                      <a:srgbClr val="000000"/>
                    </a:solidFill>
                    <a:latin typeface="Times New Roman"/>
                  </a:rPr>
                  <a:t>厘米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57" name=""/>
            <p:cNvSpPr/>
            <p:nvPr/>
          </p:nvSpPr>
          <p:spPr>
            <a:xfrm>
              <a:off x="3124080" y="3622680"/>
              <a:ext cx="129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</a:rPr>
                <a:t>厘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4533840" y="3622680"/>
              <a:ext cx="129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</a:rPr>
                <a:t>厘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新界喇沙中學地理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666880" y="76320"/>
            <a:ext cx="444996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3366"/>
                </a:solidFill>
                <a:latin typeface="Times New Roman"/>
              </a:rPr>
              <a:t>格網座標及格網方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99cc"/>
                </a:solidFill>
                <a:latin typeface="Times New Roman"/>
              </a:rPr>
              <a:t>(</a:t>
            </a:r>
            <a:r>
              <a:rPr b="1" lang="zh-TW" sz="1800" spc="-1" strike="noStrike">
                <a:solidFill>
                  <a:srgbClr val="0099cc"/>
                </a:solidFill>
                <a:latin typeface="Times New Roman"/>
              </a:rPr>
              <a:t>本投影片須以結束放映的方式進行練習</a:t>
            </a:r>
            <a:r>
              <a:rPr b="1" lang="zh-TW" sz="1800" spc="-1" strike="noStrike">
                <a:solidFill>
                  <a:srgbClr val="0099cc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400480" y="53830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237360" y="54230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116080" y="496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29480" y="1920960"/>
            <a:ext cx="232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格網方格一例：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005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305920" y="971640"/>
            <a:ext cx="193680" cy="16488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116080" y="2971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7094520" y="4484520"/>
            <a:ext cx="2001600" cy="2086920"/>
            <a:chOff x="7094520" y="4484520"/>
            <a:chExt cx="2001600" cy="2086920"/>
          </a:xfrm>
        </p:grpSpPr>
        <p:grpSp>
          <p:nvGrpSpPr>
            <p:cNvPr id="136" name=""/>
            <p:cNvGrpSpPr/>
            <p:nvPr/>
          </p:nvGrpSpPr>
          <p:grpSpPr>
            <a:xfrm>
              <a:off x="7095600" y="4484520"/>
              <a:ext cx="1964520" cy="2086920"/>
              <a:chOff x="7095600" y="4484520"/>
              <a:chExt cx="1964520" cy="2086920"/>
            </a:xfrm>
          </p:grpSpPr>
          <p:sp>
            <p:nvSpPr>
              <p:cNvPr id="137" name=""/>
              <p:cNvSpPr/>
              <p:nvPr/>
            </p:nvSpPr>
            <p:spPr>
              <a:xfrm>
                <a:off x="7095600" y="4484520"/>
                <a:ext cx="1964520" cy="2064240"/>
              </a:xfrm>
              <a:prstGeom prst="rect">
                <a:avLst/>
              </a:prstGeom>
              <a:noFill/>
              <a:ln w="2556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276320" y="4484520"/>
                <a:ext cx="0" cy="2046240"/>
              </a:xfrm>
              <a:prstGeom prst="line">
                <a:avLst/>
              </a:prstGeom>
              <a:ln w="2556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473960" y="4509360"/>
                <a:ext cx="0" cy="2046240"/>
              </a:xfrm>
              <a:prstGeom prst="line">
                <a:avLst/>
              </a:prstGeom>
              <a:ln w="2556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671960" y="4484520"/>
                <a:ext cx="0" cy="2046240"/>
              </a:xfrm>
              <a:prstGeom prst="line">
                <a:avLst/>
              </a:prstGeom>
              <a:ln w="2556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60320" y="4509360"/>
                <a:ext cx="0" cy="2046240"/>
              </a:xfrm>
              <a:prstGeom prst="line">
                <a:avLst/>
              </a:prstGeom>
              <a:ln w="2556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662680" y="4509360"/>
                <a:ext cx="0" cy="2046240"/>
              </a:xfrm>
              <a:prstGeom prst="line">
                <a:avLst/>
              </a:prstGeom>
              <a:ln w="2556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069040" y="4525200"/>
                <a:ext cx="0" cy="2046240"/>
              </a:xfrm>
              <a:prstGeom prst="line">
                <a:avLst/>
              </a:prstGeom>
              <a:ln w="2556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869960" y="4525200"/>
                <a:ext cx="0" cy="2046240"/>
              </a:xfrm>
              <a:prstGeom prst="line">
                <a:avLst/>
              </a:prstGeom>
              <a:ln w="2556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266680" y="4484520"/>
                <a:ext cx="0" cy="2046240"/>
              </a:xfrm>
              <a:prstGeom prst="line">
                <a:avLst/>
              </a:prstGeom>
              <a:ln w="2556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464680" y="4484520"/>
                <a:ext cx="0" cy="2046240"/>
              </a:xfrm>
              <a:prstGeom prst="line">
                <a:avLst/>
              </a:prstGeom>
              <a:ln w="2556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7094520" y="4499280"/>
              <a:ext cx="2001600" cy="2071080"/>
              <a:chOff x="7094520" y="4499280"/>
              <a:chExt cx="2001600" cy="2071080"/>
            </a:xfrm>
          </p:grpSpPr>
          <p:sp>
            <p:nvSpPr>
              <p:cNvPr id="148" name=""/>
              <p:cNvSpPr/>
              <p:nvPr/>
            </p:nvSpPr>
            <p:spPr>
              <a:xfrm rot="16200000">
                <a:off x="7048800" y="4545000"/>
                <a:ext cx="2071080" cy="1979640"/>
              </a:xfrm>
              <a:prstGeom prst="rect">
                <a:avLst/>
              </a:prstGeom>
              <a:noFill/>
              <a:ln w="2556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094520" y="6379920"/>
                <a:ext cx="1962720" cy="0"/>
              </a:xfrm>
              <a:prstGeom prst="line">
                <a:avLst/>
              </a:prstGeom>
              <a:ln w="2556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118280" y="6171120"/>
                <a:ext cx="1962720" cy="0"/>
              </a:xfrm>
              <a:prstGeom prst="line">
                <a:avLst/>
              </a:prstGeom>
              <a:ln w="2556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094520" y="5962680"/>
                <a:ext cx="1962720" cy="0"/>
              </a:xfrm>
              <a:prstGeom prst="line">
                <a:avLst/>
              </a:prstGeom>
              <a:ln w="2556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118280" y="4709520"/>
                <a:ext cx="1962720" cy="0"/>
              </a:xfrm>
              <a:prstGeom prst="line">
                <a:avLst/>
              </a:prstGeom>
              <a:ln w="2556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18280" y="4918320"/>
                <a:ext cx="1962720" cy="0"/>
              </a:xfrm>
              <a:prstGeom prst="line">
                <a:avLst/>
              </a:prstGeom>
              <a:ln w="2556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133400" y="5544000"/>
                <a:ext cx="1962720" cy="0"/>
              </a:xfrm>
              <a:prstGeom prst="line">
                <a:avLst/>
              </a:prstGeom>
              <a:ln w="2556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133400" y="5753880"/>
                <a:ext cx="1962720" cy="0"/>
              </a:xfrm>
              <a:prstGeom prst="line">
                <a:avLst/>
              </a:prstGeom>
              <a:ln w="2556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094520" y="5335200"/>
                <a:ext cx="1962720" cy="0"/>
              </a:xfrm>
              <a:prstGeom prst="line">
                <a:avLst/>
              </a:prstGeom>
              <a:ln w="2556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094520" y="5126760"/>
                <a:ext cx="1962720" cy="0"/>
              </a:xfrm>
              <a:prstGeom prst="line">
                <a:avLst/>
              </a:prstGeom>
              <a:ln w="2556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8" name=""/>
          <p:cNvSpPr/>
          <p:nvPr/>
        </p:nvSpPr>
        <p:spPr>
          <a:xfrm>
            <a:off x="960480" y="596880"/>
            <a:ext cx="170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先橫後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343400" y="54230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765680" y="3200400"/>
            <a:ext cx="1963800" cy="206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801880" y="3200400"/>
            <a:ext cx="1963800" cy="206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765680" y="1136520"/>
            <a:ext cx="1963800" cy="206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01880" y="1136520"/>
            <a:ext cx="1963800" cy="206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16080" y="977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746760" y="2743200"/>
            <a:ext cx="23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格網方格例一：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0105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753240" y="3429000"/>
            <a:ext cx="232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格網方格例二：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0035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新界喇沙中學地理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590920" y="380880"/>
            <a:ext cx="434340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3366"/>
                </a:solidFill>
                <a:latin typeface="Times New Roman"/>
              </a:rPr>
              <a:t>比例尺</a:t>
            </a:r>
            <a:r>
              <a:rPr b="1" lang="zh-TW" sz="3200" spc="-1" strike="noStrike">
                <a:solidFill>
                  <a:srgbClr val="003366"/>
                </a:solidFill>
                <a:latin typeface="Times New Roman"/>
              </a:rPr>
              <a:t>(1)-</a:t>
            </a:r>
            <a:r>
              <a:rPr b="1" lang="zh-TW" sz="3200" spc="-1" strike="noStrike">
                <a:solidFill>
                  <a:srgbClr val="003366"/>
                </a:solidFill>
                <a:latin typeface="Times New Roman"/>
              </a:rPr>
              <a:t>分數比例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99cc"/>
                </a:solidFill>
                <a:latin typeface="Times New Roman"/>
              </a:rPr>
              <a:t>(</a:t>
            </a:r>
            <a:r>
              <a:rPr b="1" lang="zh-TW" sz="1800" spc="-1" strike="noStrike">
                <a:solidFill>
                  <a:srgbClr val="0099cc"/>
                </a:solidFill>
                <a:latin typeface="Times New Roman"/>
              </a:rPr>
              <a:t>請放映本投影片</a:t>
            </a:r>
            <a:r>
              <a:rPr b="1" lang="zh-TW" sz="1800" spc="-1" strike="noStrike">
                <a:solidFill>
                  <a:srgbClr val="0099cc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43000" y="137160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設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MA(Mobile Armor)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之    寬度為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20 m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5486400" y="1143000"/>
            <a:ext cx="2743200" cy="3332160"/>
            <a:chOff x="5486400" y="1143000"/>
            <a:chExt cx="2743200" cy="3332160"/>
          </a:xfrm>
        </p:grpSpPr>
        <p:grpSp>
          <p:nvGrpSpPr>
            <p:cNvPr id="170" name=""/>
            <p:cNvGrpSpPr/>
            <p:nvPr/>
          </p:nvGrpSpPr>
          <p:grpSpPr>
            <a:xfrm>
              <a:off x="5486400" y="1143000"/>
              <a:ext cx="2743200" cy="761760"/>
              <a:chOff x="5486400" y="1143000"/>
              <a:chExt cx="2743200" cy="761760"/>
            </a:xfrm>
          </p:grpSpPr>
          <p:sp>
            <p:nvSpPr>
              <p:cNvPr id="171" name=""/>
              <p:cNvSpPr/>
              <p:nvPr/>
            </p:nvSpPr>
            <p:spPr>
              <a:xfrm>
                <a:off x="5486400" y="1143000"/>
                <a:ext cx="2743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400" spc="-1" strike="noStrike">
                    <a:solidFill>
                      <a:srgbClr val="000000"/>
                    </a:solidFill>
                    <a:latin typeface="Times New Roman"/>
                  </a:rPr>
                  <a:t>1 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715000" y="1904760"/>
                <a:ext cx="2362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5562720" y="2438280"/>
              <a:ext cx="2361960" cy="2036880"/>
              <a:chOff x="5562720" y="2438280"/>
              <a:chExt cx="2361960" cy="2036880"/>
            </a:xfrm>
          </p:grpSpPr>
          <p:pic>
            <p:nvPicPr>
              <p:cNvPr id="174" name="圖形1" descr=""/>
              <p:cNvPicPr/>
              <p:nvPr/>
            </p:nvPicPr>
            <p:blipFill>
              <a:blip r:embed="rId1"/>
              <a:stretch/>
            </p:blipFill>
            <p:spPr>
              <a:xfrm>
                <a:off x="5562720" y="2438280"/>
                <a:ext cx="2361960" cy="2036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" name=""/>
              <p:cNvSpPr/>
              <p:nvPr/>
            </p:nvSpPr>
            <p:spPr>
              <a:xfrm>
                <a:off x="5562720" y="24382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6" name=""/>
          <p:cNvGrpSpPr/>
          <p:nvPr/>
        </p:nvGrpSpPr>
        <p:grpSpPr>
          <a:xfrm>
            <a:off x="6477120" y="4724280"/>
            <a:ext cx="1600200" cy="1904760"/>
            <a:chOff x="6477120" y="4724280"/>
            <a:chExt cx="1600200" cy="1904760"/>
          </a:xfrm>
        </p:grpSpPr>
        <p:grpSp>
          <p:nvGrpSpPr>
            <p:cNvPr id="177" name=""/>
            <p:cNvGrpSpPr/>
            <p:nvPr/>
          </p:nvGrpSpPr>
          <p:grpSpPr>
            <a:xfrm>
              <a:off x="6705720" y="6019560"/>
              <a:ext cx="1371600" cy="609480"/>
              <a:chOff x="6705720" y="6019560"/>
              <a:chExt cx="1371600" cy="609480"/>
            </a:xfrm>
          </p:grpSpPr>
          <p:sp>
            <p:nvSpPr>
              <p:cNvPr id="178" name=""/>
              <p:cNvSpPr/>
              <p:nvPr/>
            </p:nvSpPr>
            <p:spPr>
              <a:xfrm>
                <a:off x="6705720" y="6019560"/>
                <a:ext cx="137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400" spc="-1" strike="noStrike">
                    <a:solidFill>
                      <a:srgbClr val="000000"/>
                    </a:solidFill>
                    <a:latin typeface="Times New Roman"/>
                  </a:rPr>
                  <a:t>50 c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705720" y="6629040"/>
                <a:ext cx="1295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6477120" y="4724280"/>
              <a:ext cx="1447560" cy="1279440"/>
              <a:chOff x="6477120" y="4724280"/>
              <a:chExt cx="1447560" cy="1279440"/>
            </a:xfrm>
          </p:grpSpPr>
          <p:pic>
            <p:nvPicPr>
              <p:cNvPr id="181" name="圖形1" descr=""/>
              <p:cNvPicPr/>
              <p:nvPr/>
            </p:nvPicPr>
            <p:blipFill>
              <a:blip r:embed="rId2"/>
              <a:stretch/>
            </p:blipFill>
            <p:spPr>
              <a:xfrm>
                <a:off x="6705720" y="4952880"/>
                <a:ext cx="1218960" cy="1050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" name=""/>
              <p:cNvSpPr/>
              <p:nvPr/>
            </p:nvSpPr>
            <p:spPr>
              <a:xfrm>
                <a:off x="6477120" y="47242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3" name=""/>
          <p:cNvSpPr/>
          <p:nvPr/>
        </p:nvSpPr>
        <p:spPr>
          <a:xfrm>
            <a:off x="1143000" y="2514600"/>
            <a:ext cx="3962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模型之比例為何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             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1 / 20 = 1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219320" y="3581280"/>
            <a:ext cx="39621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模型之比例為何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0.5(m) / 20(m) =1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50(cm) / 2000(cm) =1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143000" y="60199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400" spc="-1" strike="noStrike">
                <a:solidFill>
                  <a:srgbClr val="3366cc"/>
                </a:solidFill>
                <a:latin typeface="Times New Roman"/>
              </a:rPr>
              <a:t>分母較大之比例尺，其比例較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新界喇沙中學地理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590920" y="38088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3366"/>
                </a:solidFill>
                <a:latin typeface="Times New Roman"/>
              </a:rPr>
              <a:t>比例尺</a:t>
            </a:r>
            <a:r>
              <a:rPr b="1" lang="zh-TW" sz="3200" spc="-1" strike="noStrike">
                <a:solidFill>
                  <a:srgbClr val="003366"/>
                </a:solidFill>
                <a:latin typeface="Times New Roman"/>
              </a:rPr>
              <a:t>(2)-</a:t>
            </a:r>
            <a:r>
              <a:rPr b="1" lang="zh-TW" sz="3200" spc="-1" strike="noStrike">
                <a:solidFill>
                  <a:srgbClr val="003366"/>
                </a:solidFill>
                <a:latin typeface="Times New Roman"/>
              </a:rPr>
              <a:t>直線比例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6095880" y="914400"/>
            <a:ext cx="2743200" cy="3332160"/>
            <a:chOff x="6095880" y="914400"/>
            <a:chExt cx="2743200" cy="3332160"/>
          </a:xfrm>
        </p:grpSpPr>
        <p:grpSp>
          <p:nvGrpSpPr>
            <p:cNvPr id="188" name=""/>
            <p:cNvGrpSpPr/>
            <p:nvPr/>
          </p:nvGrpSpPr>
          <p:grpSpPr>
            <a:xfrm>
              <a:off x="6095880" y="914400"/>
              <a:ext cx="2743200" cy="761760"/>
              <a:chOff x="6095880" y="914400"/>
              <a:chExt cx="2743200" cy="761760"/>
            </a:xfrm>
          </p:grpSpPr>
          <p:sp>
            <p:nvSpPr>
              <p:cNvPr id="189" name=""/>
              <p:cNvSpPr/>
              <p:nvPr/>
            </p:nvSpPr>
            <p:spPr>
              <a:xfrm>
                <a:off x="6095880" y="914400"/>
                <a:ext cx="2743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400" spc="-1" strike="noStrike">
                    <a:solidFill>
                      <a:srgbClr val="000000"/>
                    </a:solidFill>
                    <a:latin typeface="Times New Roman"/>
                  </a:rPr>
                  <a:t>1 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324480" y="1676160"/>
                <a:ext cx="2362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6172200" y="2209680"/>
              <a:ext cx="2361960" cy="2036880"/>
              <a:chOff x="6172200" y="2209680"/>
              <a:chExt cx="2361960" cy="2036880"/>
            </a:xfrm>
          </p:grpSpPr>
          <p:pic>
            <p:nvPicPr>
              <p:cNvPr id="192" name="圖形1" descr=""/>
              <p:cNvPicPr/>
              <p:nvPr/>
            </p:nvPicPr>
            <p:blipFill>
              <a:blip r:embed="rId1"/>
              <a:stretch/>
            </p:blipFill>
            <p:spPr>
              <a:xfrm>
                <a:off x="6172200" y="2209680"/>
                <a:ext cx="2361960" cy="2036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3" name=""/>
              <p:cNvSpPr/>
              <p:nvPr/>
            </p:nvSpPr>
            <p:spPr>
              <a:xfrm>
                <a:off x="6172200" y="22096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4" name=""/>
          <p:cNvSpPr/>
          <p:nvPr/>
        </p:nvSpPr>
        <p:spPr>
          <a:xfrm>
            <a:off x="1295280" y="144792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以地圖所提供的比例尺，量度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模型的闊度，以求取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MA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的實際闊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914400" y="3124080"/>
            <a:ext cx="5409720" cy="840600"/>
            <a:chOff x="914400" y="3124080"/>
            <a:chExt cx="5409720" cy="840600"/>
          </a:xfrm>
        </p:grpSpPr>
        <p:grpSp>
          <p:nvGrpSpPr>
            <p:cNvPr id="196" name=""/>
            <p:cNvGrpSpPr/>
            <p:nvPr/>
          </p:nvGrpSpPr>
          <p:grpSpPr>
            <a:xfrm>
              <a:off x="3352320" y="3200040"/>
              <a:ext cx="2286000" cy="152640"/>
              <a:chOff x="3352320" y="3200040"/>
              <a:chExt cx="2286000" cy="152640"/>
            </a:xfrm>
          </p:grpSpPr>
          <p:sp>
            <p:nvSpPr>
              <p:cNvPr id="197" name=""/>
              <p:cNvSpPr/>
              <p:nvPr/>
            </p:nvSpPr>
            <p:spPr>
              <a:xfrm flipH="1">
                <a:off x="3352320" y="3352680"/>
                <a:ext cx="2285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V="1">
                <a:off x="5638320" y="320004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1066320" y="3200040"/>
              <a:ext cx="2286000" cy="152640"/>
              <a:chOff x="1066320" y="3200040"/>
              <a:chExt cx="2286000" cy="152640"/>
            </a:xfrm>
          </p:grpSpPr>
          <p:sp>
            <p:nvSpPr>
              <p:cNvPr id="200" name=""/>
              <p:cNvSpPr/>
              <p:nvPr/>
            </p:nvSpPr>
            <p:spPr>
              <a:xfrm flipH="1">
                <a:off x="1066320" y="3352680"/>
                <a:ext cx="2285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V="1">
                <a:off x="3352320" y="320004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 flipV="1">
              <a:off x="1066680" y="32000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914400" y="350496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124080" y="3504960"/>
              <a:ext cx="60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410080" y="3504960"/>
              <a:ext cx="60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867280" y="312408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2362320" y="480060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3366"/>
                </a:solidFill>
                <a:latin typeface="Times New Roman"/>
              </a:rPr>
              <a:t>比例尺</a:t>
            </a:r>
            <a:r>
              <a:rPr b="1" lang="zh-TW" sz="3200" spc="-1" strike="noStrike">
                <a:solidFill>
                  <a:srgbClr val="003366"/>
                </a:solidFill>
                <a:latin typeface="Times New Roman"/>
              </a:rPr>
              <a:t>(3)-</a:t>
            </a:r>
            <a:r>
              <a:rPr b="1" lang="zh-TW" sz="3200" spc="-1" strike="noStrike">
                <a:solidFill>
                  <a:srgbClr val="003366"/>
                </a:solidFill>
                <a:latin typeface="Times New Roman"/>
              </a:rPr>
              <a:t>說明式比例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371600" y="5487840"/>
            <a:ext cx="6400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說明式比例尺基本上並無技巧可言，以上面的例子來說，說明式比例尺為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厘米代表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20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厘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733920" y="4038480"/>
            <a:ext cx="5409720" cy="840600"/>
            <a:chOff x="3733920" y="4038480"/>
            <a:chExt cx="5409720" cy="840600"/>
          </a:xfrm>
        </p:grpSpPr>
        <p:grpSp>
          <p:nvGrpSpPr>
            <p:cNvPr id="210" name=""/>
            <p:cNvGrpSpPr/>
            <p:nvPr/>
          </p:nvGrpSpPr>
          <p:grpSpPr>
            <a:xfrm>
              <a:off x="6171840" y="4114440"/>
              <a:ext cx="2286000" cy="152640"/>
              <a:chOff x="6171840" y="4114440"/>
              <a:chExt cx="2286000" cy="152640"/>
            </a:xfrm>
          </p:grpSpPr>
          <p:sp>
            <p:nvSpPr>
              <p:cNvPr id="211" name=""/>
              <p:cNvSpPr/>
              <p:nvPr/>
            </p:nvSpPr>
            <p:spPr>
              <a:xfrm flipH="1">
                <a:off x="6171840" y="4267080"/>
                <a:ext cx="2285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V="1">
                <a:off x="8457840" y="411444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3885840" y="4114440"/>
              <a:ext cx="2286000" cy="152640"/>
              <a:chOff x="3885840" y="4114440"/>
              <a:chExt cx="2286000" cy="152640"/>
            </a:xfrm>
          </p:grpSpPr>
          <p:sp>
            <p:nvSpPr>
              <p:cNvPr id="214" name=""/>
              <p:cNvSpPr/>
              <p:nvPr/>
            </p:nvSpPr>
            <p:spPr>
              <a:xfrm flipH="1">
                <a:off x="3885840" y="4267080"/>
                <a:ext cx="2285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V="1">
                <a:off x="6171840" y="411444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6" name=""/>
            <p:cNvSpPr/>
            <p:nvPr/>
          </p:nvSpPr>
          <p:spPr>
            <a:xfrm flipV="1">
              <a:off x="3886200" y="41144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733920" y="441936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943600" y="4419360"/>
              <a:ext cx="60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229600" y="4419360"/>
              <a:ext cx="60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686800" y="403848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新界喇沙中學地理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973080" y="1143000"/>
            <a:ext cx="779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已知分數比例尺為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200000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，試利用直尺計算亞巴奧要塞的實際長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圖形1" descr=""/>
          <p:cNvPicPr/>
          <p:nvPr/>
        </p:nvPicPr>
        <p:blipFill>
          <a:blip r:embed="rId1"/>
          <a:stretch/>
        </p:blipFill>
        <p:spPr>
          <a:xfrm>
            <a:off x="7238880" y="2514600"/>
            <a:ext cx="1219320" cy="14479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3352680" y="2614680"/>
            <a:ext cx="13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直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1965240" y="1928520"/>
            <a:ext cx="4276800" cy="732960"/>
            <a:chOff x="1965240" y="1928520"/>
            <a:chExt cx="4276800" cy="732960"/>
          </a:xfrm>
        </p:grpSpPr>
        <p:grpSp>
          <p:nvGrpSpPr>
            <p:cNvPr id="225" name=""/>
            <p:cNvGrpSpPr/>
            <p:nvPr/>
          </p:nvGrpSpPr>
          <p:grpSpPr>
            <a:xfrm>
              <a:off x="1965240" y="1928520"/>
              <a:ext cx="4151160" cy="687960"/>
              <a:chOff x="1965240" y="1928520"/>
              <a:chExt cx="4151160" cy="687960"/>
            </a:xfrm>
          </p:grpSpPr>
          <p:sp>
            <p:nvSpPr>
              <p:cNvPr id="226" name=""/>
              <p:cNvSpPr/>
              <p:nvPr/>
            </p:nvSpPr>
            <p:spPr>
              <a:xfrm>
                <a:off x="2525400" y="221760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214440" y="221760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902040" y="2217600"/>
                <a:ext cx="304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590720" y="221760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278320" y="2217600"/>
                <a:ext cx="304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965240" y="1928880"/>
                <a:ext cx="414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V="1">
                <a:off x="2250720" y="1928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V="1">
                <a:off x="2112840" y="1928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V="1">
                <a:off x="1976400" y="192852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V="1">
                <a:off x="2388960" y="1928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2801880" y="1928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V="1">
                <a:off x="2663640" y="1928880"/>
                <a:ext cx="0" cy="288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V="1">
                <a:off x="2525400" y="1928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V="1">
                <a:off x="2938320" y="1928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V="1">
                <a:off x="3352680" y="1928880"/>
                <a:ext cx="0" cy="288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V="1">
                <a:off x="3214440" y="1928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V="1">
                <a:off x="3076200" y="1928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V="1">
                <a:off x="3489120" y="1928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V="1">
                <a:off x="3902040" y="1928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V="1">
                <a:off x="3765240" y="1928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V="1">
                <a:off x="3627360" y="1928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V="1">
                <a:off x="4039920" y="1928880"/>
                <a:ext cx="0" cy="288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V="1">
                <a:off x="4452840" y="1928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V="1">
                <a:off x="4314600" y="1928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V="1">
                <a:off x="4178160" y="1928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V="1">
                <a:off x="4590720" y="1928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V="1">
                <a:off x="5554440" y="1928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V="1">
                <a:off x="5416200" y="1928880"/>
                <a:ext cx="0" cy="288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V="1">
                <a:off x="5278320" y="1928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5690880" y="1928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V="1">
                <a:off x="5003640" y="1928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V="1">
                <a:off x="4865400" y="1928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4728960" y="1928880"/>
                <a:ext cx="0" cy="288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V="1">
                <a:off x="5141880" y="1928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V="1">
                <a:off x="6105240" y="192852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5967360" y="1928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V="1">
                <a:off x="5829120" y="1928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976400" y="2614680"/>
                <a:ext cx="414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4" name=""/>
            <p:cNvSpPr/>
            <p:nvPr/>
          </p:nvSpPr>
          <p:spPr>
            <a:xfrm>
              <a:off x="5416560" y="2201760"/>
              <a:ext cx="82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0000"/>
                  </a:solidFill>
                  <a:latin typeface="Times New Roman"/>
                </a:rPr>
                <a:t>厘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6506280" y="2514600"/>
            <a:ext cx="732960" cy="4276800"/>
            <a:chOff x="6506280" y="2514600"/>
            <a:chExt cx="732960" cy="4276800"/>
          </a:xfrm>
        </p:grpSpPr>
        <p:grpSp>
          <p:nvGrpSpPr>
            <p:cNvPr id="266" name=""/>
            <p:cNvGrpSpPr/>
            <p:nvPr/>
          </p:nvGrpSpPr>
          <p:grpSpPr>
            <a:xfrm>
              <a:off x="6551280" y="2514600"/>
              <a:ext cx="687960" cy="4151160"/>
              <a:chOff x="6551280" y="2514600"/>
              <a:chExt cx="687960" cy="4151160"/>
            </a:xfrm>
          </p:grpSpPr>
          <p:sp>
            <p:nvSpPr>
              <p:cNvPr id="267" name=""/>
              <p:cNvSpPr/>
              <p:nvPr/>
            </p:nvSpPr>
            <p:spPr>
              <a:xfrm rot="5400000">
                <a:off x="6598080" y="302760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5400000">
                <a:off x="6598080" y="371664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5400000">
                <a:off x="6598440" y="4404240"/>
                <a:ext cx="304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5400000">
                <a:off x="6598080" y="509292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rot="5400000">
                <a:off x="6598440" y="5780520"/>
                <a:ext cx="304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238880" y="2514600"/>
                <a:ext cx="0" cy="414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086960" y="280008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7086960" y="266220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553440" y="252576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086960" y="293832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086960" y="335124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950160" y="3213000"/>
                <a:ext cx="288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086960" y="307476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7086960" y="348768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950160" y="3902040"/>
                <a:ext cx="288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086960" y="376380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086960" y="362556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7086960" y="403848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086960" y="445140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086960" y="431460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086960" y="417672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950160" y="4589280"/>
                <a:ext cx="288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086960" y="500220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086960" y="486396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086960" y="472752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086960" y="514008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7086960" y="610380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950160" y="5965560"/>
                <a:ext cx="288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7086960" y="582768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086960" y="624024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7086960" y="555300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7086960" y="541476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950160" y="5278320"/>
                <a:ext cx="288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7086960" y="569124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553440" y="665460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7086960" y="651672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086960" y="637848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553080" y="2525760"/>
                <a:ext cx="0" cy="414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5" name=""/>
            <p:cNvSpPr/>
            <p:nvPr/>
          </p:nvSpPr>
          <p:spPr>
            <a:xfrm rot="5400000">
              <a:off x="6323400" y="6148800"/>
              <a:ext cx="82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0000"/>
                  </a:solidFill>
                  <a:latin typeface="Times New Roman"/>
                </a:rPr>
                <a:t>厘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 flipH="1">
            <a:off x="7238880" y="251460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7238880" y="39625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974880" y="4586400"/>
            <a:ext cx="5578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實際長度為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2.1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厘米 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X 200000 = 420000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厘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65080" y="3209760"/>
            <a:ext cx="4294440" cy="138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用直尺量度亞巴奧要塞的長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度為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2.1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厘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590920" y="38088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3366"/>
                </a:solidFill>
                <a:latin typeface="Times New Roman"/>
              </a:rPr>
              <a:t>量度距離</a:t>
            </a:r>
            <a:r>
              <a:rPr b="1" lang="zh-TW" sz="3200" spc="-1" strike="noStrike">
                <a:solidFill>
                  <a:srgbClr val="003366"/>
                </a:solidFill>
                <a:latin typeface="Times New Roman"/>
              </a:rPr>
              <a:t>(1)-</a:t>
            </a:r>
            <a:r>
              <a:rPr b="1" lang="zh-TW" sz="3200" spc="-1" strike="noStrike">
                <a:solidFill>
                  <a:srgbClr val="003366"/>
                </a:solidFill>
                <a:latin typeface="Times New Roman"/>
              </a:rPr>
              <a:t>直線距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974880" y="5659560"/>
            <a:ext cx="55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= 4200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4591080" y="5303880"/>
            <a:ext cx="304920" cy="108000"/>
            <a:chOff x="4591080" y="5303880"/>
            <a:chExt cx="304920" cy="108000"/>
          </a:xfrm>
        </p:grpSpPr>
        <p:sp>
          <p:nvSpPr>
            <p:cNvPr id="313" name=""/>
            <p:cNvSpPr/>
            <p:nvPr/>
          </p:nvSpPr>
          <p:spPr>
            <a:xfrm>
              <a:off x="4591080" y="53038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591080" y="54118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3892680" y="5918040"/>
            <a:ext cx="836640" cy="459720"/>
            <a:chOff x="3892680" y="5918040"/>
            <a:chExt cx="836640" cy="459720"/>
          </a:xfrm>
        </p:grpSpPr>
        <p:sp>
          <p:nvSpPr>
            <p:cNvPr id="316" name=""/>
            <p:cNvSpPr/>
            <p:nvPr/>
          </p:nvSpPr>
          <p:spPr>
            <a:xfrm>
              <a:off x="3902040" y="6054480"/>
              <a:ext cx="82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892680" y="591804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</a:rPr>
                <a:t>1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973080" y="6129360"/>
            <a:ext cx="52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= 4.2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千米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或公里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新界喇沙中學地理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2590920" y="38088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3366"/>
                </a:solidFill>
                <a:latin typeface="Times New Roman"/>
              </a:rPr>
              <a:t>量度距離</a:t>
            </a:r>
            <a:r>
              <a:rPr b="1" lang="zh-TW" sz="3200" spc="-1" strike="noStrike">
                <a:solidFill>
                  <a:srgbClr val="003366"/>
                </a:solidFill>
                <a:latin typeface="Times New Roman"/>
              </a:rPr>
              <a:t>(2.1)-</a:t>
            </a:r>
            <a:r>
              <a:rPr b="1" lang="zh-TW" sz="3200" spc="-1" strike="noStrike">
                <a:solidFill>
                  <a:srgbClr val="003366"/>
                </a:solidFill>
                <a:latin typeface="Times New Roman"/>
              </a:rPr>
              <a:t>曲線距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6324480" y="1066680"/>
            <a:ext cx="2742840" cy="3798720"/>
            <a:chOff x="6324480" y="1066680"/>
            <a:chExt cx="2742840" cy="3798720"/>
          </a:xfrm>
        </p:grpSpPr>
        <p:pic>
          <p:nvPicPr>
            <p:cNvPr id="321" name="圖形1" descr=""/>
            <p:cNvPicPr/>
            <p:nvPr/>
          </p:nvPicPr>
          <p:blipFill>
            <a:blip r:embed="rId1"/>
            <a:stretch/>
          </p:blipFill>
          <p:spPr>
            <a:xfrm>
              <a:off x="6395760" y="1430640"/>
              <a:ext cx="2671560" cy="291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6324480" y="1430640"/>
              <a:ext cx="1420920" cy="2913840"/>
            </a:xfrm>
            <a:custGeom>
              <a:avLst/>
              <a:gdLst/>
              <a:ahLst/>
              <a:rect l="l" t="t" r="r" b="b"/>
              <a:pathLst>
                <a:path w="1032" h="2304">
                  <a:moveTo>
                    <a:pt x="1032" y="0"/>
                  </a:moveTo>
                  <a:cubicBezTo>
                    <a:pt x="1000" y="68"/>
                    <a:pt x="968" y="136"/>
                    <a:pt x="936" y="144"/>
                  </a:cubicBezTo>
                  <a:cubicBezTo>
                    <a:pt x="904" y="152"/>
                    <a:pt x="872" y="64"/>
                    <a:pt x="840" y="48"/>
                  </a:cubicBezTo>
                  <a:cubicBezTo>
                    <a:pt x="808" y="32"/>
                    <a:pt x="768" y="32"/>
                    <a:pt x="744" y="48"/>
                  </a:cubicBezTo>
                  <a:cubicBezTo>
                    <a:pt x="720" y="64"/>
                    <a:pt x="816" y="72"/>
                    <a:pt x="696" y="144"/>
                  </a:cubicBezTo>
                  <a:cubicBezTo>
                    <a:pt x="576" y="216"/>
                    <a:pt x="48" y="352"/>
                    <a:pt x="24" y="480"/>
                  </a:cubicBezTo>
                  <a:cubicBezTo>
                    <a:pt x="0" y="608"/>
                    <a:pt x="456" y="816"/>
                    <a:pt x="552" y="912"/>
                  </a:cubicBezTo>
                  <a:cubicBezTo>
                    <a:pt x="648" y="1008"/>
                    <a:pt x="576" y="992"/>
                    <a:pt x="600" y="1056"/>
                  </a:cubicBezTo>
                  <a:cubicBezTo>
                    <a:pt x="624" y="1120"/>
                    <a:pt x="712" y="1248"/>
                    <a:pt x="696" y="1296"/>
                  </a:cubicBezTo>
                  <a:cubicBezTo>
                    <a:pt x="680" y="1344"/>
                    <a:pt x="520" y="1304"/>
                    <a:pt x="504" y="1344"/>
                  </a:cubicBezTo>
                  <a:cubicBezTo>
                    <a:pt x="488" y="1384"/>
                    <a:pt x="560" y="1504"/>
                    <a:pt x="600" y="1536"/>
                  </a:cubicBezTo>
                  <a:cubicBezTo>
                    <a:pt x="640" y="1568"/>
                    <a:pt x="712" y="1472"/>
                    <a:pt x="744" y="1536"/>
                  </a:cubicBezTo>
                  <a:cubicBezTo>
                    <a:pt x="776" y="1600"/>
                    <a:pt x="768" y="1832"/>
                    <a:pt x="792" y="1920"/>
                  </a:cubicBezTo>
                  <a:cubicBezTo>
                    <a:pt x="816" y="2008"/>
                    <a:pt x="872" y="2016"/>
                    <a:pt x="888" y="2064"/>
                  </a:cubicBezTo>
                  <a:cubicBezTo>
                    <a:pt x="904" y="2112"/>
                    <a:pt x="872" y="2168"/>
                    <a:pt x="888" y="2208"/>
                  </a:cubicBezTo>
                  <a:cubicBezTo>
                    <a:pt x="904" y="2248"/>
                    <a:pt x="944" y="2276"/>
                    <a:pt x="984" y="2304"/>
                  </a:cubicBezTo>
                </a:path>
              </a:pathLst>
            </a:cu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548480" y="1066680"/>
              <a:ext cx="3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481160" y="4405680"/>
              <a:ext cx="39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1066680" y="12193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cc"/>
                </a:solidFill>
                <a:latin typeface="Times New Roman"/>
              </a:rPr>
              <a:t>依紅色路徑由</a:t>
            </a:r>
            <a:r>
              <a:rPr b="0" lang="zh-TW" sz="2400" spc="-1" strike="noStrike">
                <a:solidFill>
                  <a:srgbClr val="3366cc"/>
                </a:solidFill>
                <a:latin typeface="Times New Roman"/>
              </a:rPr>
              <a:t>A</a:t>
            </a:r>
            <a:r>
              <a:rPr b="0" lang="zh-TW" sz="2400" spc="-1" strike="noStrike">
                <a:solidFill>
                  <a:srgbClr val="3366cc"/>
                </a:solidFill>
                <a:latin typeface="Times New Roman"/>
              </a:rPr>
              <a:t>走往</a:t>
            </a:r>
            <a:r>
              <a:rPr b="0" lang="zh-TW" sz="2400" spc="-1" strike="noStrike">
                <a:solidFill>
                  <a:srgbClr val="3366cc"/>
                </a:solidFill>
                <a:latin typeface="Times New Roman"/>
              </a:rPr>
              <a:t>B</a:t>
            </a:r>
            <a:r>
              <a:rPr b="0" lang="zh-TW" sz="2400" spc="-1" strike="noStrike">
                <a:solidFill>
                  <a:srgbClr val="3366cc"/>
                </a:solidFill>
                <a:latin typeface="Times New Roman"/>
              </a:rPr>
              <a:t>，距離為何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6093360" y="1447920"/>
            <a:ext cx="732960" cy="4276080"/>
            <a:chOff x="6093360" y="1447920"/>
            <a:chExt cx="732960" cy="4276080"/>
          </a:xfrm>
        </p:grpSpPr>
        <p:grpSp>
          <p:nvGrpSpPr>
            <p:cNvPr id="327" name=""/>
            <p:cNvGrpSpPr/>
            <p:nvPr/>
          </p:nvGrpSpPr>
          <p:grpSpPr>
            <a:xfrm>
              <a:off x="6138360" y="1447920"/>
              <a:ext cx="687960" cy="4151160"/>
              <a:chOff x="6138360" y="1447920"/>
              <a:chExt cx="687960" cy="4151160"/>
            </a:xfrm>
          </p:grpSpPr>
          <p:sp>
            <p:nvSpPr>
              <p:cNvPr id="328" name=""/>
              <p:cNvSpPr/>
              <p:nvPr/>
            </p:nvSpPr>
            <p:spPr>
              <a:xfrm rot="5400000">
                <a:off x="6185160" y="196092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5400000">
                <a:off x="6185160" y="264996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5400000">
                <a:off x="6185520" y="3337560"/>
                <a:ext cx="304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5400000">
                <a:off x="6185160" y="402624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5400000">
                <a:off x="6185520" y="4713840"/>
                <a:ext cx="304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825960" y="1447920"/>
                <a:ext cx="0" cy="414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674040" y="173340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674040" y="159552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140520" y="145908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674040" y="187164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674040" y="228456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537240" y="2146320"/>
                <a:ext cx="288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674040" y="200808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674040" y="242100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537240" y="2835360"/>
                <a:ext cx="288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674040" y="269712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674040" y="255888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674040" y="297180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674040" y="338472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674040" y="324792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674040" y="311004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537240" y="3522600"/>
                <a:ext cx="288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674040" y="393552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674040" y="379728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674040" y="366084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674040" y="407340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6674040" y="503712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537240" y="4898880"/>
                <a:ext cx="288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674040" y="476100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674040" y="517356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674040" y="448632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674040" y="434808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537240" y="4211640"/>
                <a:ext cx="288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674040" y="462456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6140520" y="558792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674040" y="545004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674040" y="531180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6140160" y="1459080"/>
                <a:ext cx="0" cy="414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 rot="5400000">
              <a:off x="5910480" y="5081400"/>
              <a:ext cx="82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0000"/>
                  </a:solidFill>
                  <a:latin typeface="Times New Roman"/>
                </a:rPr>
                <a:t>厘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1295280" y="236232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由於直線距離為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4.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厘米，為上一頁長度的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倍，故比例尺為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371600" y="33526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2  X  1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200000 = 1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1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6858000" y="144792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6826320" y="434484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371600" y="441972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若要量度曲線距離，可用幼繩或紙條作量度工具，並依下頁所示之方法量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新界喇沙中學地理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2590920" y="38088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3366"/>
                </a:solidFill>
                <a:latin typeface="Times New Roman"/>
              </a:rPr>
              <a:t>量度距離</a:t>
            </a:r>
            <a:r>
              <a:rPr b="1" lang="zh-TW" sz="3200" spc="-1" strike="noStrike">
                <a:solidFill>
                  <a:srgbClr val="003366"/>
                </a:solidFill>
                <a:latin typeface="Times New Roman"/>
              </a:rPr>
              <a:t>(2.2)-</a:t>
            </a:r>
            <a:r>
              <a:rPr b="1" lang="zh-TW" sz="3200" spc="-1" strike="noStrike">
                <a:solidFill>
                  <a:srgbClr val="003366"/>
                </a:solidFill>
                <a:latin typeface="Times New Roman"/>
              </a:rPr>
              <a:t>曲線距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219320" y="1978200"/>
            <a:ext cx="48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將幼繩拉直後，用直尺曲線距離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219320" y="10666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若要幼繩量度曲線距離，可將幼繩用手指緊貼各段曲線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203480" y="3489480"/>
            <a:ext cx="1387440" cy="3065400"/>
          </a:xfrm>
          <a:custGeom>
            <a:avLst/>
            <a:gdLst/>
            <a:ahLst/>
            <a:rect l="l" t="t" r="r" b="b"/>
            <a:pathLst>
              <a:path w="874" h="1931">
                <a:moveTo>
                  <a:pt x="874" y="0"/>
                </a:moveTo>
                <a:cubicBezTo>
                  <a:pt x="846" y="57"/>
                  <a:pt x="818" y="114"/>
                  <a:pt x="791" y="121"/>
                </a:cubicBezTo>
                <a:cubicBezTo>
                  <a:pt x="763" y="127"/>
                  <a:pt x="735" y="54"/>
                  <a:pt x="707" y="40"/>
                </a:cubicBezTo>
                <a:cubicBezTo>
                  <a:pt x="680" y="27"/>
                  <a:pt x="645" y="27"/>
                  <a:pt x="624" y="40"/>
                </a:cubicBezTo>
                <a:cubicBezTo>
                  <a:pt x="603" y="54"/>
                  <a:pt x="687" y="60"/>
                  <a:pt x="583" y="121"/>
                </a:cubicBezTo>
                <a:cubicBezTo>
                  <a:pt x="479" y="181"/>
                  <a:pt x="21" y="295"/>
                  <a:pt x="0" y="402"/>
                </a:cubicBezTo>
                <a:lnTo>
                  <a:pt x="458" y="764"/>
                </a:lnTo>
                <a:cubicBezTo>
                  <a:pt x="541" y="845"/>
                  <a:pt x="479" y="831"/>
                  <a:pt x="499" y="885"/>
                </a:cubicBezTo>
                <a:cubicBezTo>
                  <a:pt x="520" y="939"/>
                  <a:pt x="596" y="1046"/>
                  <a:pt x="583" y="1086"/>
                </a:cubicBezTo>
                <a:cubicBezTo>
                  <a:pt x="569" y="1126"/>
                  <a:pt x="430" y="1093"/>
                  <a:pt x="416" y="1126"/>
                </a:cubicBezTo>
                <a:cubicBezTo>
                  <a:pt x="402" y="1160"/>
                  <a:pt x="465" y="1261"/>
                  <a:pt x="499" y="1287"/>
                </a:cubicBezTo>
                <a:cubicBezTo>
                  <a:pt x="534" y="1314"/>
                  <a:pt x="596" y="1234"/>
                  <a:pt x="624" y="1287"/>
                </a:cubicBezTo>
                <a:cubicBezTo>
                  <a:pt x="652" y="1341"/>
                  <a:pt x="645" y="1535"/>
                  <a:pt x="666" y="1609"/>
                </a:cubicBezTo>
                <a:cubicBezTo>
                  <a:pt x="687" y="1683"/>
                  <a:pt x="735" y="1690"/>
                  <a:pt x="749" y="1730"/>
                </a:cubicBezTo>
                <a:cubicBezTo>
                  <a:pt x="763" y="1770"/>
                  <a:pt x="735" y="1817"/>
                  <a:pt x="749" y="1851"/>
                </a:cubicBezTo>
                <a:cubicBezTo>
                  <a:pt x="763" y="1884"/>
                  <a:pt x="798" y="1908"/>
                  <a:pt x="832" y="1931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rot="10774200">
            <a:off x="1233360" y="4541400"/>
            <a:ext cx="4710240" cy="187560"/>
          </a:xfrm>
          <a:custGeom>
            <a:avLst/>
            <a:gdLst/>
            <a:ahLst/>
            <a:rect l="l" t="t" r="r" b="b"/>
            <a:pathLst>
              <a:path w="2967" h="118">
                <a:moveTo>
                  <a:pt x="0" y="69"/>
                </a:moveTo>
                <a:cubicBezTo>
                  <a:pt x="35" y="71"/>
                  <a:pt x="148" y="76"/>
                  <a:pt x="211" y="80"/>
                </a:cubicBezTo>
                <a:cubicBezTo>
                  <a:pt x="274" y="84"/>
                  <a:pt x="326" y="93"/>
                  <a:pt x="378" y="91"/>
                </a:cubicBezTo>
                <a:cubicBezTo>
                  <a:pt x="430" y="89"/>
                  <a:pt x="438" y="65"/>
                  <a:pt x="523" y="69"/>
                </a:cubicBezTo>
                <a:cubicBezTo>
                  <a:pt x="608" y="73"/>
                  <a:pt x="765" y="110"/>
                  <a:pt x="889" y="114"/>
                </a:cubicBezTo>
                <a:cubicBezTo>
                  <a:pt x="1013" y="118"/>
                  <a:pt x="1158" y="98"/>
                  <a:pt x="1267" y="91"/>
                </a:cubicBezTo>
                <a:lnTo>
                  <a:pt x="1545" y="69"/>
                </a:lnTo>
                <a:cubicBezTo>
                  <a:pt x="1623" y="60"/>
                  <a:pt x="1677" y="47"/>
                  <a:pt x="1734" y="36"/>
                </a:cubicBezTo>
                <a:cubicBezTo>
                  <a:pt x="1791" y="25"/>
                  <a:pt x="1845" y="0"/>
                  <a:pt x="1889" y="2"/>
                </a:cubicBezTo>
                <a:cubicBezTo>
                  <a:pt x="1933" y="4"/>
                  <a:pt x="1961" y="38"/>
                  <a:pt x="2000" y="47"/>
                </a:cubicBezTo>
                <a:cubicBezTo>
                  <a:pt x="2039" y="56"/>
                  <a:pt x="2079" y="56"/>
                  <a:pt x="2123" y="58"/>
                </a:cubicBezTo>
                <a:cubicBezTo>
                  <a:pt x="2167" y="60"/>
                  <a:pt x="2193" y="65"/>
                  <a:pt x="2267" y="58"/>
                </a:cubicBezTo>
                <a:cubicBezTo>
                  <a:pt x="2341" y="51"/>
                  <a:pt x="2491" y="21"/>
                  <a:pt x="2567" y="14"/>
                </a:cubicBezTo>
                <a:cubicBezTo>
                  <a:pt x="2643" y="7"/>
                  <a:pt x="2679" y="14"/>
                  <a:pt x="2725" y="15"/>
                </a:cubicBezTo>
                <a:cubicBezTo>
                  <a:pt x="2771" y="16"/>
                  <a:pt x="2806" y="22"/>
                  <a:pt x="2846" y="20"/>
                </a:cubicBezTo>
                <a:cubicBezTo>
                  <a:pt x="2886" y="18"/>
                  <a:pt x="2942" y="6"/>
                  <a:pt x="2967" y="2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4316400" y="5730480"/>
            <a:ext cx="5635440" cy="698040"/>
            <a:chOff x="4316400" y="5730480"/>
            <a:chExt cx="5635440" cy="698040"/>
          </a:xfrm>
        </p:grpSpPr>
        <p:sp>
          <p:nvSpPr>
            <p:cNvPr id="378" name=""/>
            <p:cNvSpPr/>
            <p:nvPr/>
          </p:nvSpPr>
          <p:spPr>
            <a:xfrm>
              <a:off x="9126360" y="5959440"/>
              <a:ext cx="82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0000"/>
                  </a:solidFill>
                  <a:latin typeface="Times New Roman"/>
                </a:rPr>
                <a:t>厘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9" name=""/>
            <p:cNvGrpSpPr/>
            <p:nvPr/>
          </p:nvGrpSpPr>
          <p:grpSpPr>
            <a:xfrm>
              <a:off x="4316400" y="5730480"/>
              <a:ext cx="5516640" cy="698040"/>
              <a:chOff x="4316400" y="5730480"/>
              <a:chExt cx="5516640" cy="698040"/>
            </a:xfrm>
          </p:grpSpPr>
          <p:grpSp>
            <p:nvGrpSpPr>
              <p:cNvPr id="380" name=""/>
              <p:cNvGrpSpPr/>
              <p:nvPr/>
            </p:nvGrpSpPr>
            <p:grpSpPr>
              <a:xfrm>
                <a:off x="4316400" y="5735520"/>
                <a:ext cx="4151160" cy="693000"/>
                <a:chOff x="4316400" y="5735520"/>
                <a:chExt cx="4151160" cy="693000"/>
              </a:xfrm>
            </p:grpSpPr>
            <p:sp>
              <p:nvSpPr>
                <p:cNvPr id="381" name=""/>
                <p:cNvSpPr/>
                <p:nvPr/>
              </p:nvSpPr>
              <p:spPr>
                <a:xfrm>
                  <a:off x="4873680" y="6029640"/>
                  <a:ext cx="304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5562360" y="6029640"/>
                  <a:ext cx="304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6253200" y="6024960"/>
                  <a:ext cx="304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6941880" y="6024960"/>
                  <a:ext cx="304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7629480" y="6024960"/>
                  <a:ext cx="304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4316400" y="5735880"/>
                  <a:ext cx="4140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 flipV="1">
                  <a:off x="4602240" y="573588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 flipV="1">
                  <a:off x="4464000" y="573588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 flipV="1">
                  <a:off x="4327560" y="5735520"/>
                  <a:ext cx="0" cy="685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 flipV="1">
                  <a:off x="4740120" y="573588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 flipV="1">
                  <a:off x="5153040" y="573588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 flipV="1">
                  <a:off x="5014800" y="5735520"/>
                  <a:ext cx="0" cy="289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 flipV="1">
                  <a:off x="4876560" y="573588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 flipV="1">
                  <a:off x="5289480" y="573588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 flipV="1">
                  <a:off x="5703840" y="5735520"/>
                  <a:ext cx="0" cy="289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 flipV="1">
                  <a:off x="5565600" y="573588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 flipV="1">
                  <a:off x="5427720" y="573588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 flipV="1">
                  <a:off x="5840280" y="573588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 flipV="1">
                  <a:off x="6253200" y="573588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 flipV="1">
                  <a:off x="6116400" y="573588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 flipV="1">
                  <a:off x="5978520" y="573588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 flipV="1">
                  <a:off x="6391080" y="5735520"/>
                  <a:ext cx="0" cy="289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 flipV="1">
                  <a:off x="6804000" y="573588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 flipV="1">
                  <a:off x="6665760" y="573588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 flipV="1">
                  <a:off x="6529320" y="573588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flipV="1">
                  <a:off x="6941880" y="573588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 flipV="1">
                  <a:off x="7905600" y="573588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 flipV="1">
                  <a:off x="7767720" y="5735520"/>
                  <a:ext cx="0" cy="289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 flipV="1">
                  <a:off x="7629480" y="573588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 flipV="1">
                  <a:off x="8042040" y="573588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 flipV="1">
                  <a:off x="7354800" y="573588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 flipV="1">
                  <a:off x="7216560" y="573588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 flipV="1">
                  <a:off x="7080120" y="5735520"/>
                  <a:ext cx="0" cy="289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 flipV="1">
                  <a:off x="7493040" y="573588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 flipV="1">
                  <a:off x="8318520" y="573588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 flipV="1">
                  <a:off x="8180280" y="573588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4327560" y="6421680"/>
                  <a:ext cx="4140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8" name=""/>
              <p:cNvSpPr/>
              <p:nvPr/>
            </p:nvSpPr>
            <p:spPr>
              <a:xfrm>
                <a:off x="8288280" y="601992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9005760" y="602460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8445240" y="5730840"/>
                <a:ext cx="1387800" cy="5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V="1">
                <a:off x="8731080" y="573084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V="1">
                <a:off x="8593200" y="573084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V="1">
                <a:off x="8456400" y="5730840"/>
                <a:ext cx="0" cy="293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V="1">
                <a:off x="8869320" y="573084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V="1">
                <a:off x="9281880" y="573084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V="1">
                <a:off x="9144000" y="5730480"/>
                <a:ext cx="0" cy="289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V="1">
                <a:off x="9005760" y="573084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V="1">
                <a:off x="9418680" y="573084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V="1">
                <a:off x="9833040" y="573048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V="1">
                <a:off x="9694800" y="573084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V="1">
                <a:off x="9556560" y="573084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8456400" y="6416640"/>
                <a:ext cx="1376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3" name=""/>
          <p:cNvSpPr/>
          <p:nvPr/>
        </p:nvSpPr>
        <p:spPr>
          <a:xfrm flipH="1">
            <a:off x="1203480" y="4684680"/>
            <a:ext cx="4709160" cy="907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424400">
            <a:off x="2042280" y="3427920"/>
            <a:ext cx="1387440" cy="3065400"/>
          </a:xfrm>
          <a:custGeom>
            <a:avLst/>
            <a:gdLst/>
            <a:ahLst/>
            <a:rect l="l" t="t" r="r" b="b"/>
            <a:pathLst>
              <a:path w="874" h="1931">
                <a:moveTo>
                  <a:pt x="874" y="0"/>
                </a:moveTo>
                <a:cubicBezTo>
                  <a:pt x="846" y="57"/>
                  <a:pt x="818" y="114"/>
                  <a:pt x="791" y="121"/>
                </a:cubicBezTo>
                <a:cubicBezTo>
                  <a:pt x="763" y="127"/>
                  <a:pt x="735" y="54"/>
                  <a:pt x="707" y="40"/>
                </a:cubicBezTo>
                <a:cubicBezTo>
                  <a:pt x="680" y="27"/>
                  <a:pt x="645" y="27"/>
                  <a:pt x="624" y="40"/>
                </a:cubicBezTo>
                <a:cubicBezTo>
                  <a:pt x="603" y="54"/>
                  <a:pt x="687" y="60"/>
                  <a:pt x="583" y="121"/>
                </a:cubicBezTo>
                <a:cubicBezTo>
                  <a:pt x="479" y="181"/>
                  <a:pt x="21" y="295"/>
                  <a:pt x="0" y="402"/>
                </a:cubicBezTo>
                <a:lnTo>
                  <a:pt x="458" y="764"/>
                </a:lnTo>
                <a:cubicBezTo>
                  <a:pt x="541" y="845"/>
                  <a:pt x="479" y="831"/>
                  <a:pt x="499" y="885"/>
                </a:cubicBezTo>
                <a:cubicBezTo>
                  <a:pt x="520" y="939"/>
                  <a:pt x="596" y="1046"/>
                  <a:pt x="583" y="1086"/>
                </a:cubicBezTo>
                <a:cubicBezTo>
                  <a:pt x="569" y="1126"/>
                  <a:pt x="430" y="1093"/>
                  <a:pt x="416" y="1126"/>
                </a:cubicBezTo>
                <a:cubicBezTo>
                  <a:pt x="402" y="1160"/>
                  <a:pt x="465" y="1261"/>
                  <a:pt x="499" y="1287"/>
                </a:cubicBezTo>
                <a:cubicBezTo>
                  <a:pt x="534" y="1314"/>
                  <a:pt x="596" y="1234"/>
                  <a:pt x="624" y="1287"/>
                </a:cubicBezTo>
                <a:cubicBezTo>
                  <a:pt x="652" y="1341"/>
                  <a:pt x="645" y="1535"/>
                  <a:pt x="666" y="1609"/>
                </a:cubicBezTo>
                <a:cubicBezTo>
                  <a:pt x="687" y="1683"/>
                  <a:pt x="735" y="1690"/>
                  <a:pt x="749" y="1730"/>
                </a:cubicBezTo>
                <a:cubicBezTo>
                  <a:pt x="763" y="1770"/>
                  <a:pt x="735" y="1817"/>
                  <a:pt x="749" y="1851"/>
                </a:cubicBezTo>
                <a:cubicBezTo>
                  <a:pt x="763" y="1884"/>
                  <a:pt x="798" y="1908"/>
                  <a:pt x="832" y="1931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6558120" y="1224000"/>
            <a:ext cx="2671560" cy="3971160"/>
            <a:chOff x="6558120" y="1224000"/>
            <a:chExt cx="2671560" cy="3971160"/>
          </a:xfrm>
        </p:grpSpPr>
        <p:pic>
          <p:nvPicPr>
            <p:cNvPr id="436" name="圖形1" descr=""/>
            <p:cNvPicPr/>
            <p:nvPr/>
          </p:nvPicPr>
          <p:blipFill>
            <a:blip r:embed="rId1"/>
            <a:stretch/>
          </p:blipFill>
          <p:spPr>
            <a:xfrm>
              <a:off x="6558120" y="1633680"/>
              <a:ext cx="2671560" cy="30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"/>
            <p:cNvSpPr/>
            <p:nvPr/>
          </p:nvSpPr>
          <p:spPr>
            <a:xfrm>
              <a:off x="7624800" y="1224000"/>
              <a:ext cx="3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558200" y="4735440"/>
              <a:ext cx="39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7216920" y="2819520"/>
            <a:ext cx="682560" cy="1852560"/>
          </a:xfrm>
          <a:custGeom>
            <a:avLst/>
            <a:gdLst/>
            <a:ahLst/>
            <a:rect l="l" t="t" r="r" b="b"/>
            <a:pathLst>
              <a:path w="430" h="1167">
                <a:moveTo>
                  <a:pt x="56" y="0"/>
                </a:moveTo>
                <a:cubicBezTo>
                  <a:pt x="63" y="20"/>
                  <a:pt x="77" y="67"/>
                  <a:pt x="97" y="121"/>
                </a:cubicBezTo>
                <a:cubicBezTo>
                  <a:pt x="118" y="175"/>
                  <a:pt x="194" y="282"/>
                  <a:pt x="181" y="322"/>
                </a:cubicBezTo>
                <a:cubicBezTo>
                  <a:pt x="167" y="362"/>
                  <a:pt x="28" y="329"/>
                  <a:pt x="14" y="362"/>
                </a:cubicBezTo>
                <a:cubicBezTo>
                  <a:pt x="0" y="396"/>
                  <a:pt x="63" y="497"/>
                  <a:pt x="97" y="523"/>
                </a:cubicBezTo>
                <a:cubicBezTo>
                  <a:pt x="132" y="550"/>
                  <a:pt x="194" y="470"/>
                  <a:pt x="222" y="523"/>
                </a:cubicBezTo>
                <a:cubicBezTo>
                  <a:pt x="250" y="577"/>
                  <a:pt x="243" y="771"/>
                  <a:pt x="264" y="845"/>
                </a:cubicBezTo>
                <a:cubicBezTo>
                  <a:pt x="285" y="919"/>
                  <a:pt x="333" y="926"/>
                  <a:pt x="347" y="966"/>
                </a:cubicBezTo>
                <a:cubicBezTo>
                  <a:pt x="361" y="1006"/>
                  <a:pt x="333" y="1053"/>
                  <a:pt x="347" y="1087"/>
                </a:cubicBezTo>
                <a:cubicBezTo>
                  <a:pt x="361" y="1120"/>
                  <a:pt x="396" y="1144"/>
                  <a:pt x="430" y="1167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485040" y="1633680"/>
            <a:ext cx="1420560" cy="1212840"/>
          </a:xfrm>
          <a:custGeom>
            <a:avLst/>
            <a:gdLst/>
            <a:ahLst/>
            <a:rect l="l" t="t" r="r" b="b"/>
            <a:pathLst>
              <a:path w="895" h="764">
                <a:moveTo>
                  <a:pt x="895" y="0"/>
                </a:moveTo>
                <a:cubicBezTo>
                  <a:pt x="867" y="57"/>
                  <a:pt x="839" y="114"/>
                  <a:pt x="812" y="121"/>
                </a:cubicBezTo>
                <a:cubicBezTo>
                  <a:pt x="784" y="127"/>
                  <a:pt x="756" y="54"/>
                  <a:pt x="728" y="40"/>
                </a:cubicBezTo>
                <a:cubicBezTo>
                  <a:pt x="701" y="27"/>
                  <a:pt x="666" y="27"/>
                  <a:pt x="645" y="40"/>
                </a:cubicBezTo>
                <a:cubicBezTo>
                  <a:pt x="624" y="54"/>
                  <a:pt x="708" y="60"/>
                  <a:pt x="604" y="121"/>
                </a:cubicBezTo>
                <a:cubicBezTo>
                  <a:pt x="500" y="181"/>
                  <a:pt x="42" y="295"/>
                  <a:pt x="21" y="402"/>
                </a:cubicBezTo>
                <a:cubicBezTo>
                  <a:pt x="0" y="510"/>
                  <a:pt x="403" y="704"/>
                  <a:pt x="479" y="764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203480" y="2435400"/>
            <a:ext cx="123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6.8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厘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4602240" y="3489480"/>
            <a:ext cx="304560" cy="107640"/>
            <a:chOff x="4602240" y="3489480"/>
            <a:chExt cx="304560" cy="107640"/>
          </a:xfrm>
        </p:grpSpPr>
        <p:sp>
          <p:nvSpPr>
            <p:cNvPr id="443" name=""/>
            <p:cNvSpPr/>
            <p:nvPr/>
          </p:nvSpPr>
          <p:spPr>
            <a:xfrm>
              <a:off x="4602240" y="348948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602240" y="359712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3903480" y="4084560"/>
            <a:ext cx="836280" cy="459720"/>
            <a:chOff x="3903480" y="4084560"/>
            <a:chExt cx="836280" cy="459720"/>
          </a:xfrm>
        </p:grpSpPr>
        <p:sp>
          <p:nvSpPr>
            <p:cNvPr id="446" name=""/>
            <p:cNvSpPr/>
            <p:nvPr/>
          </p:nvSpPr>
          <p:spPr>
            <a:xfrm>
              <a:off x="3912840" y="4221000"/>
              <a:ext cx="826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903480" y="408456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</a:rPr>
                <a:t>1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1233360" y="2800440"/>
            <a:ext cx="5578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實際距離為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6.8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厘米 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X 100000 = 680000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厘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H="1">
            <a:off x="4316760" y="5535360"/>
            <a:ext cx="4709520" cy="910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974880" y="3824280"/>
            <a:ext cx="55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= 6800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84240" y="4541760"/>
            <a:ext cx="52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= 6.8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千米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或公里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新界喇沙中學地理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1233360" y="2800440"/>
            <a:ext cx="5578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實際距離為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6.8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厘米 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X 100000 = 680000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厘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38088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3366"/>
                </a:solidFill>
                <a:latin typeface="Times New Roman"/>
              </a:rPr>
              <a:t>量度距離</a:t>
            </a:r>
            <a:r>
              <a:rPr b="1" lang="zh-TW" sz="3200" spc="-1" strike="noStrike">
                <a:solidFill>
                  <a:srgbClr val="003366"/>
                </a:solidFill>
                <a:latin typeface="Times New Roman"/>
              </a:rPr>
              <a:t>(2.3)-</a:t>
            </a:r>
            <a:r>
              <a:rPr b="1" lang="zh-TW" sz="3200" spc="-1" strike="noStrike">
                <a:solidFill>
                  <a:srgbClr val="003366"/>
                </a:solidFill>
                <a:latin typeface="Times New Roman"/>
              </a:rPr>
              <a:t>曲線距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219320" y="197820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用直尺量度紙條上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至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的距離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219320" y="106668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若要紙條量度曲線距離，可用筆及紙條將曲線分段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6472080" y="1224000"/>
            <a:ext cx="2671920" cy="3971160"/>
            <a:chOff x="6472080" y="1224000"/>
            <a:chExt cx="2671920" cy="3971160"/>
          </a:xfrm>
        </p:grpSpPr>
        <p:sp>
          <p:nvSpPr>
            <p:cNvPr id="457" name=""/>
            <p:cNvSpPr/>
            <p:nvPr/>
          </p:nvSpPr>
          <p:spPr>
            <a:xfrm>
              <a:off x="7558200" y="4735440"/>
              <a:ext cx="39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8" name=""/>
            <p:cNvGrpSpPr/>
            <p:nvPr/>
          </p:nvGrpSpPr>
          <p:grpSpPr>
            <a:xfrm>
              <a:off x="6472080" y="1224000"/>
              <a:ext cx="2671920" cy="3448080"/>
              <a:chOff x="6472080" y="1224000"/>
              <a:chExt cx="2671920" cy="3448080"/>
            </a:xfrm>
          </p:grpSpPr>
          <p:pic>
            <p:nvPicPr>
              <p:cNvPr id="459" name="圖形1" descr=""/>
              <p:cNvPicPr/>
              <p:nvPr/>
            </p:nvPicPr>
            <p:blipFill>
              <a:blip r:embed="rId1"/>
              <a:stretch/>
            </p:blipFill>
            <p:spPr>
              <a:xfrm>
                <a:off x="6472080" y="1606680"/>
                <a:ext cx="2671920" cy="3065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0" name=""/>
              <p:cNvSpPr/>
              <p:nvPr/>
            </p:nvSpPr>
            <p:spPr>
              <a:xfrm>
                <a:off x="7624800" y="1224000"/>
                <a:ext cx="39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1" name=""/>
          <p:cNvGrpSpPr/>
          <p:nvPr/>
        </p:nvGrpSpPr>
        <p:grpSpPr>
          <a:xfrm>
            <a:off x="4962960" y="-909000"/>
            <a:ext cx="3311640" cy="3008880"/>
            <a:chOff x="4962960" y="-909000"/>
            <a:chExt cx="3311640" cy="3008880"/>
          </a:xfrm>
        </p:grpSpPr>
        <p:sp>
          <p:nvSpPr>
            <p:cNvPr id="462" name=""/>
            <p:cNvSpPr/>
            <p:nvPr/>
          </p:nvSpPr>
          <p:spPr>
            <a:xfrm rot="2482200">
              <a:off x="4654080" y="320760"/>
              <a:ext cx="3929040" cy="549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2726000">
              <a:off x="7619400" y="1523520"/>
              <a:ext cx="243000" cy="365400"/>
            </a:xfrm>
            <a:prstGeom prst="triangle">
              <a:avLst>
                <a:gd name="adj" fmla="val 50255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rot="12726000">
              <a:off x="7374960" y="1310760"/>
              <a:ext cx="243000" cy="365400"/>
            </a:xfrm>
            <a:prstGeom prst="triangle">
              <a:avLst>
                <a:gd name="adj" fmla="val 50255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4379040" y="909000"/>
            <a:ext cx="3807360" cy="2116440"/>
            <a:chOff x="4379040" y="909000"/>
            <a:chExt cx="3807360" cy="2116440"/>
          </a:xfrm>
        </p:grpSpPr>
        <p:grpSp>
          <p:nvGrpSpPr>
            <p:cNvPr id="466" name=""/>
            <p:cNvGrpSpPr/>
            <p:nvPr/>
          </p:nvGrpSpPr>
          <p:grpSpPr>
            <a:xfrm>
              <a:off x="4379040" y="909000"/>
              <a:ext cx="3807360" cy="2116440"/>
              <a:chOff x="4379040" y="909000"/>
              <a:chExt cx="3807360" cy="2116440"/>
            </a:xfrm>
          </p:grpSpPr>
          <p:grpSp>
            <p:nvGrpSpPr>
              <p:cNvPr id="467" name=""/>
              <p:cNvGrpSpPr/>
              <p:nvPr/>
            </p:nvGrpSpPr>
            <p:grpSpPr>
              <a:xfrm>
                <a:off x="4379040" y="909000"/>
                <a:ext cx="3807360" cy="2116440"/>
                <a:chOff x="4379040" y="909000"/>
                <a:chExt cx="3807360" cy="2116440"/>
              </a:xfrm>
            </p:grpSpPr>
            <p:sp>
              <p:nvSpPr>
                <p:cNvPr id="468" name=""/>
                <p:cNvSpPr/>
                <p:nvPr/>
              </p:nvSpPr>
              <p:spPr>
                <a:xfrm rot="20143200">
                  <a:off x="4318200" y="1692360"/>
                  <a:ext cx="3929040" cy="549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 rot="8787600">
                  <a:off x="7635600" y="1220400"/>
                  <a:ext cx="243000" cy="365400"/>
                </a:xfrm>
                <a:prstGeom prst="triangle">
                  <a:avLst>
                    <a:gd name="adj" fmla="val 50255"/>
                  </a:avLst>
                </a:prstGeom>
                <a:solidFill>
                  <a:srgbClr val="00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 rot="8787600">
                  <a:off x="7340760" y="1355040"/>
                  <a:ext cx="243000" cy="365400"/>
                </a:xfrm>
                <a:prstGeom prst="triangle">
                  <a:avLst>
                    <a:gd name="adj" fmla="val 50255"/>
                  </a:avLst>
                </a:prstGeom>
                <a:solidFill>
                  <a:srgbClr val="00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1" name=""/>
              <p:cNvSpPr/>
              <p:nvPr/>
            </p:nvSpPr>
            <p:spPr>
              <a:xfrm rot="9090000">
                <a:off x="7226280" y="1425600"/>
                <a:ext cx="243000" cy="365400"/>
              </a:xfrm>
              <a:prstGeom prst="triangle">
                <a:avLst>
                  <a:gd name="adj" fmla="val 50255"/>
                </a:avLst>
              </a:prstGeom>
              <a:solidFill>
                <a:srgbClr val="00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2" name=""/>
            <p:cNvSpPr/>
            <p:nvPr/>
          </p:nvSpPr>
          <p:spPr>
            <a:xfrm rot="9090000">
              <a:off x="6180480" y="1897920"/>
              <a:ext cx="243000" cy="365400"/>
            </a:xfrm>
            <a:prstGeom prst="triangle">
              <a:avLst>
                <a:gd name="adj" fmla="val 50255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4496760" y="1219320"/>
            <a:ext cx="3377880" cy="2926440"/>
            <a:chOff x="4496760" y="1219320"/>
            <a:chExt cx="3377880" cy="2926440"/>
          </a:xfrm>
        </p:grpSpPr>
        <p:sp>
          <p:nvSpPr>
            <p:cNvPr id="474" name=""/>
            <p:cNvSpPr/>
            <p:nvPr/>
          </p:nvSpPr>
          <p:spPr>
            <a:xfrm rot="19225200">
              <a:off x="4221000" y="2408040"/>
              <a:ext cx="3929040" cy="54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rot="7869000">
              <a:off x="7341120" y="1545120"/>
              <a:ext cx="242640" cy="365400"/>
            </a:xfrm>
            <a:prstGeom prst="triangle">
              <a:avLst>
                <a:gd name="adj" fmla="val 50255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5725800" y="822240"/>
            <a:ext cx="1932840" cy="3861720"/>
            <a:chOff x="5725800" y="822240"/>
            <a:chExt cx="1932840" cy="3861720"/>
          </a:xfrm>
        </p:grpSpPr>
        <p:grpSp>
          <p:nvGrpSpPr>
            <p:cNvPr id="477" name=""/>
            <p:cNvGrpSpPr/>
            <p:nvPr/>
          </p:nvGrpSpPr>
          <p:grpSpPr>
            <a:xfrm>
              <a:off x="5725800" y="822240"/>
              <a:ext cx="1932840" cy="3861720"/>
              <a:chOff x="5725800" y="822240"/>
              <a:chExt cx="1932840" cy="3861720"/>
            </a:xfrm>
          </p:grpSpPr>
          <p:sp>
            <p:nvSpPr>
              <p:cNvPr id="478" name=""/>
              <p:cNvSpPr/>
              <p:nvPr/>
            </p:nvSpPr>
            <p:spPr>
              <a:xfrm rot="17472000">
                <a:off x="4727520" y="2478240"/>
                <a:ext cx="3929040" cy="549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rot="6115800">
                <a:off x="7226640" y="1133640"/>
                <a:ext cx="243000" cy="365400"/>
              </a:xfrm>
              <a:prstGeom prst="triangle">
                <a:avLst>
                  <a:gd name="adj" fmla="val 50255"/>
                </a:avLst>
              </a:prstGeom>
              <a:solidFill>
                <a:srgbClr val="00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rot="6115800">
                <a:off x="7111080" y="1436400"/>
                <a:ext cx="243000" cy="365400"/>
              </a:xfrm>
              <a:prstGeom prst="triangle">
                <a:avLst>
                  <a:gd name="adj" fmla="val 50255"/>
                </a:avLst>
              </a:prstGeom>
              <a:solidFill>
                <a:srgbClr val="00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1" name=""/>
            <p:cNvSpPr/>
            <p:nvPr/>
          </p:nvSpPr>
          <p:spPr>
            <a:xfrm rot="6418800">
              <a:off x="7079040" y="1567440"/>
              <a:ext cx="243000" cy="365040"/>
            </a:xfrm>
            <a:prstGeom prst="triangle">
              <a:avLst>
                <a:gd name="adj" fmla="val 50255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4059360" y="5917680"/>
            <a:ext cx="5635440" cy="698040"/>
            <a:chOff x="4059360" y="5917680"/>
            <a:chExt cx="5635440" cy="698040"/>
          </a:xfrm>
        </p:grpSpPr>
        <p:sp>
          <p:nvSpPr>
            <p:cNvPr id="483" name=""/>
            <p:cNvSpPr/>
            <p:nvPr/>
          </p:nvSpPr>
          <p:spPr>
            <a:xfrm>
              <a:off x="8869320" y="6146640"/>
              <a:ext cx="82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0000"/>
                  </a:solidFill>
                  <a:latin typeface="Times New Roman"/>
                </a:rPr>
                <a:t>厘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4" name=""/>
            <p:cNvGrpSpPr/>
            <p:nvPr/>
          </p:nvGrpSpPr>
          <p:grpSpPr>
            <a:xfrm>
              <a:off x="4059360" y="5917680"/>
              <a:ext cx="5516640" cy="698040"/>
              <a:chOff x="4059360" y="5917680"/>
              <a:chExt cx="5516640" cy="698040"/>
            </a:xfrm>
          </p:grpSpPr>
          <p:grpSp>
            <p:nvGrpSpPr>
              <p:cNvPr id="485" name=""/>
              <p:cNvGrpSpPr/>
              <p:nvPr/>
            </p:nvGrpSpPr>
            <p:grpSpPr>
              <a:xfrm>
                <a:off x="4059360" y="5922720"/>
                <a:ext cx="4151160" cy="693000"/>
                <a:chOff x="4059360" y="5922720"/>
                <a:chExt cx="4151160" cy="693000"/>
              </a:xfrm>
            </p:grpSpPr>
            <p:sp>
              <p:nvSpPr>
                <p:cNvPr id="486" name=""/>
                <p:cNvSpPr/>
                <p:nvPr/>
              </p:nvSpPr>
              <p:spPr>
                <a:xfrm>
                  <a:off x="4616640" y="6216840"/>
                  <a:ext cx="304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5305320" y="6216840"/>
                  <a:ext cx="304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5996160" y="6212160"/>
                  <a:ext cx="304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6684840" y="6212160"/>
                  <a:ext cx="304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7372440" y="6212160"/>
                  <a:ext cx="304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4059360" y="5923080"/>
                  <a:ext cx="4140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 flipV="1">
                  <a:off x="4345200" y="592308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 flipV="1">
                  <a:off x="4206960" y="592308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 flipV="1">
                  <a:off x="4070520" y="5922720"/>
                  <a:ext cx="0" cy="685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 flipV="1">
                  <a:off x="4483080" y="592308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 flipV="1">
                  <a:off x="4896000" y="592308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 flipV="1">
                  <a:off x="4757760" y="5922720"/>
                  <a:ext cx="0" cy="289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 flipV="1">
                  <a:off x="4619520" y="592308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flipV="1">
                  <a:off x="5032440" y="592308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 flipV="1">
                  <a:off x="5446800" y="5922720"/>
                  <a:ext cx="0" cy="289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 flipV="1">
                  <a:off x="5308560" y="592308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 flipV="1">
                  <a:off x="5170680" y="592308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 flipV="1">
                  <a:off x="5583240" y="592308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 flipV="1">
                  <a:off x="5996160" y="592308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 flipV="1">
                  <a:off x="5859360" y="592308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 flipV="1">
                  <a:off x="5721480" y="592308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 flipV="1">
                  <a:off x="6134040" y="5922720"/>
                  <a:ext cx="0" cy="289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 flipV="1">
                  <a:off x="6546960" y="592308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 flipV="1">
                  <a:off x="6408720" y="592308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 flipV="1">
                  <a:off x="6272280" y="592308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 flipV="1">
                  <a:off x="6684840" y="592308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 flipV="1">
                  <a:off x="7648560" y="592308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 flipV="1">
                  <a:off x="7510680" y="5922720"/>
                  <a:ext cx="0" cy="289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 flipV="1">
                  <a:off x="7372440" y="592308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 flipV="1">
                  <a:off x="7785000" y="592308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 flipV="1">
                  <a:off x="7097760" y="592308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 flipV="1">
                  <a:off x="6959520" y="592308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 flipV="1">
                  <a:off x="6823080" y="5922720"/>
                  <a:ext cx="0" cy="289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 flipV="1">
                  <a:off x="7236000" y="592308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 flipV="1">
                  <a:off x="8061480" y="592308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 flipV="1">
                  <a:off x="7923240" y="592308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4070520" y="6608880"/>
                  <a:ext cx="4140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3" name=""/>
              <p:cNvSpPr/>
              <p:nvPr/>
            </p:nvSpPr>
            <p:spPr>
              <a:xfrm>
                <a:off x="8031240" y="620712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748720" y="621180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188200" y="5918040"/>
                <a:ext cx="1387800" cy="5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8474040" y="591804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flipV="1">
                <a:off x="8336160" y="591804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flipV="1">
                <a:off x="8199360" y="5918040"/>
                <a:ext cx="0" cy="293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flipV="1">
                <a:off x="8612280" y="591804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V="1">
                <a:off x="9024840" y="591804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V="1">
                <a:off x="8886960" y="5917680"/>
                <a:ext cx="0" cy="289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V="1">
                <a:off x="8748720" y="591804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V="1">
                <a:off x="9161640" y="591804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V="1">
                <a:off x="9576000" y="591768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V="1">
                <a:off x="9437760" y="591804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V="1">
                <a:off x="9299520" y="591804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8199360" y="6603840"/>
                <a:ext cx="1376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8" name=""/>
          <p:cNvGrpSpPr/>
          <p:nvPr/>
        </p:nvGrpSpPr>
        <p:grpSpPr>
          <a:xfrm>
            <a:off x="3002400" y="5130360"/>
            <a:ext cx="6015600" cy="828000"/>
            <a:chOff x="3002400" y="5130360"/>
            <a:chExt cx="6015600" cy="828000"/>
          </a:xfrm>
        </p:grpSpPr>
        <p:grpSp>
          <p:nvGrpSpPr>
            <p:cNvPr id="539" name=""/>
            <p:cNvGrpSpPr/>
            <p:nvPr/>
          </p:nvGrpSpPr>
          <p:grpSpPr>
            <a:xfrm>
              <a:off x="3002400" y="5130360"/>
              <a:ext cx="5870160" cy="828000"/>
              <a:chOff x="3002400" y="5130360"/>
              <a:chExt cx="5870160" cy="828000"/>
            </a:xfrm>
          </p:grpSpPr>
          <p:sp>
            <p:nvSpPr>
              <p:cNvPr id="540" name=""/>
              <p:cNvSpPr/>
              <p:nvPr/>
            </p:nvSpPr>
            <p:spPr>
              <a:xfrm rot="12600">
                <a:off x="3003480" y="5364360"/>
                <a:ext cx="5751720" cy="549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rot="10257000">
                <a:off x="8145360" y="5593320"/>
                <a:ext cx="303120" cy="341280"/>
              </a:xfrm>
              <a:prstGeom prst="triangle">
                <a:avLst>
                  <a:gd name="adj" fmla="val 50255"/>
                </a:avLst>
              </a:prstGeom>
              <a:solidFill>
                <a:srgbClr val="00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rot="10257000">
                <a:off x="7819920" y="5568120"/>
                <a:ext cx="343080" cy="365040"/>
              </a:xfrm>
              <a:prstGeom prst="triangle">
                <a:avLst>
                  <a:gd name="adj" fmla="val 50255"/>
                </a:avLst>
              </a:prstGeom>
              <a:solidFill>
                <a:srgbClr val="00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rot="10558800">
                <a:off x="7787880" y="5576400"/>
                <a:ext cx="243000" cy="365040"/>
              </a:xfrm>
              <a:prstGeom prst="triangle">
                <a:avLst>
                  <a:gd name="adj" fmla="val 50255"/>
                </a:avLst>
              </a:prstGeom>
              <a:solidFill>
                <a:srgbClr val="00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rot="10558800">
                <a:off x="6773040" y="5541120"/>
                <a:ext cx="242640" cy="365040"/>
              </a:xfrm>
              <a:prstGeom prst="triangle">
                <a:avLst>
                  <a:gd name="adj" fmla="val 50255"/>
                </a:avLst>
              </a:prstGeom>
              <a:solidFill>
                <a:srgbClr val="00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rot="10558800">
                <a:off x="5888880" y="5553000"/>
                <a:ext cx="243000" cy="365040"/>
              </a:xfrm>
              <a:prstGeom prst="triangle">
                <a:avLst>
                  <a:gd name="adj" fmla="val 50255"/>
                </a:avLst>
              </a:prstGeom>
              <a:solidFill>
                <a:srgbClr val="00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rot="10558800">
                <a:off x="5509800" y="5539680"/>
                <a:ext cx="243000" cy="365040"/>
              </a:xfrm>
              <a:prstGeom prst="triangle">
                <a:avLst>
                  <a:gd name="adj" fmla="val 50255"/>
                </a:avLst>
              </a:prstGeom>
              <a:solidFill>
                <a:srgbClr val="00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rot="10558800">
                <a:off x="5172840" y="5510520"/>
                <a:ext cx="242640" cy="365040"/>
              </a:xfrm>
              <a:prstGeom prst="triangle">
                <a:avLst>
                  <a:gd name="adj" fmla="val 50255"/>
                </a:avLst>
              </a:prstGeom>
              <a:solidFill>
                <a:srgbClr val="00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rot="10558800">
                <a:off x="4488120" y="5504040"/>
                <a:ext cx="243000" cy="365040"/>
              </a:xfrm>
              <a:prstGeom prst="triangle">
                <a:avLst>
                  <a:gd name="adj" fmla="val 50255"/>
                </a:avLst>
              </a:prstGeom>
              <a:solidFill>
                <a:srgbClr val="00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rot="10558800">
                <a:off x="4180680" y="5493240"/>
                <a:ext cx="242640" cy="365040"/>
              </a:xfrm>
              <a:prstGeom prst="triangle">
                <a:avLst>
                  <a:gd name="adj" fmla="val 50255"/>
                </a:avLst>
              </a:prstGeom>
              <a:solidFill>
                <a:srgbClr val="00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rot="10558800">
                <a:off x="3937680" y="5484960"/>
                <a:ext cx="243000" cy="365040"/>
              </a:xfrm>
              <a:prstGeom prst="triangle">
                <a:avLst>
                  <a:gd name="adj" fmla="val 50255"/>
                </a:avLst>
              </a:prstGeom>
              <a:solidFill>
                <a:srgbClr val="00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rot="120000">
                <a:off x="3858120" y="5137200"/>
                <a:ext cx="419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rot="10558800">
                <a:off x="8617320" y="5585040"/>
                <a:ext cx="242640" cy="365040"/>
              </a:xfrm>
              <a:prstGeom prst="triangle">
                <a:avLst>
                  <a:gd name="adj" fmla="val 50255"/>
                </a:avLst>
              </a:prstGeom>
              <a:solidFill>
                <a:srgbClr val="00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3" name=""/>
            <p:cNvSpPr/>
            <p:nvPr/>
          </p:nvSpPr>
          <p:spPr>
            <a:xfrm rot="120000">
              <a:off x="8591040" y="5193000"/>
              <a:ext cx="419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4" name=""/>
          <p:cNvSpPr/>
          <p:nvPr/>
        </p:nvSpPr>
        <p:spPr>
          <a:xfrm>
            <a:off x="1219320" y="2500200"/>
            <a:ext cx="123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6.8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厘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4602240" y="3489480"/>
            <a:ext cx="304560" cy="107640"/>
            <a:chOff x="4602240" y="3489480"/>
            <a:chExt cx="304560" cy="107640"/>
          </a:xfrm>
        </p:grpSpPr>
        <p:sp>
          <p:nvSpPr>
            <p:cNvPr id="556" name=""/>
            <p:cNvSpPr/>
            <p:nvPr/>
          </p:nvSpPr>
          <p:spPr>
            <a:xfrm>
              <a:off x="4602240" y="348948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602240" y="359712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3903480" y="4084560"/>
            <a:ext cx="836280" cy="459720"/>
            <a:chOff x="3903480" y="4084560"/>
            <a:chExt cx="836280" cy="459720"/>
          </a:xfrm>
        </p:grpSpPr>
        <p:sp>
          <p:nvSpPr>
            <p:cNvPr id="559" name=""/>
            <p:cNvSpPr/>
            <p:nvPr/>
          </p:nvSpPr>
          <p:spPr>
            <a:xfrm>
              <a:off x="3912840" y="4221000"/>
              <a:ext cx="826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903480" y="408456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</a:rPr>
                <a:t>1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1" name=""/>
          <p:cNvSpPr/>
          <p:nvPr/>
        </p:nvSpPr>
        <p:spPr>
          <a:xfrm>
            <a:off x="974880" y="3824280"/>
            <a:ext cx="55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= 6800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911160" y="4541760"/>
            <a:ext cx="52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= 6.8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千米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或公里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新界喇沙中學地理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3505320" y="38088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3366"/>
                </a:solidFill>
                <a:latin typeface="Times New Roman"/>
              </a:rPr>
              <a:t>方向</a:t>
            </a:r>
            <a:r>
              <a:rPr b="1" lang="zh-TW" sz="3200" spc="-1" strike="noStrike">
                <a:solidFill>
                  <a:srgbClr val="003366"/>
                </a:solidFill>
                <a:latin typeface="Times New Roman"/>
              </a:rPr>
              <a:t>(1)-</a:t>
            </a:r>
            <a:r>
              <a:rPr b="1" lang="zh-TW" sz="3200" spc="-1" strike="noStrike">
                <a:solidFill>
                  <a:srgbClr val="003366"/>
                </a:solidFill>
                <a:latin typeface="Times New Roman"/>
              </a:rPr>
              <a:t>羅盤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360600" y="1828800"/>
            <a:ext cx="3175200" cy="3673440"/>
          </a:xfrm>
          <a:custGeom>
            <a:avLst/>
            <a:gdLst>
              <a:gd name="textAreaLeft" fmla="*/ 724680 w 3175200"/>
              <a:gd name="textAreaRight" fmla="*/ 2450520 w 3175200"/>
              <a:gd name="textAreaTop" fmla="*/ 838440 h 3673440"/>
              <a:gd name="textAreaBottom" fmla="*/ 283500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519440" y="1325520"/>
            <a:ext cx="7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562640" y="5407200"/>
            <a:ext cx="77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630520" y="3632040"/>
            <a:ext cx="77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546960" y="3476520"/>
            <a:ext cx="77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291280" y="1488960"/>
            <a:ext cx="20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東北偏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978520" y="2790720"/>
            <a:ext cx="20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東北偏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978520" y="4211640"/>
            <a:ext cx="20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東南偏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259240" y="5159520"/>
            <a:ext cx="20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東南偏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887560" y="5240160"/>
            <a:ext cx="20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西南偏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857240" y="4245120"/>
            <a:ext cx="20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西南偏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857240" y="2790720"/>
            <a:ext cx="20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西北偏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544840" y="1488960"/>
            <a:ext cx="240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西北偏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144960" y="470232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Times New Roman"/>
              </a:rPr>
              <a:t>西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032280" y="2179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Times New Roman"/>
              </a:rPr>
              <a:t>西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978520" y="4702320"/>
            <a:ext cx="94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Times New Roman"/>
              </a:rPr>
              <a:t>東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892840" y="2179800"/>
            <a:ext cx="94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Times New Roman"/>
              </a:rPr>
              <a:t>東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403440" y="3341520"/>
            <a:ext cx="330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8000"/>
                </a:solidFill>
                <a:latin typeface="Times New Roman"/>
              </a:rPr>
              <a:t>共</a:t>
            </a:r>
            <a:r>
              <a:rPr b="1" lang="zh-TW" sz="3200" spc="-1" strike="noStrike">
                <a:solidFill>
                  <a:srgbClr val="008000"/>
                </a:solidFill>
                <a:latin typeface="Times New Roman"/>
              </a:rPr>
              <a:t>16</a:t>
            </a:r>
            <a:r>
              <a:rPr b="1" lang="zh-TW" sz="3200" spc="-1" strike="noStrike">
                <a:solidFill>
                  <a:srgbClr val="008000"/>
                </a:solidFill>
                <a:latin typeface="Times New Roman"/>
              </a:rPr>
              <a:t>個主要方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新界喇沙中學地理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8T12:16:01Z</dcterms:created>
  <dc:creator>YU COMPANY</dc:creator>
  <dc:description/>
  <dc:language>en-US</dc:language>
  <cp:lastModifiedBy>YU COMPANY</cp:lastModifiedBy>
  <dcterms:modified xsi:type="dcterms:W3CDTF">2001-02-18T12:51:46Z</dcterms:modified>
  <cp:revision>36</cp:revision>
  <dc:subject/>
  <dc:title>無投影片標題</dc:title>
</cp:coreProperties>
</file>